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4AD1-DF81-47BB-9B8B-F724CA7F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F26-9A11-4667-B182-8055C898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311-8FD1-4457-B6FE-0532F271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B60-6E5A-40A1-A558-C21BC86E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6BD-CF05-4D20-8EAA-F4079B43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AA5-ABC6-49A8-BE64-687C2703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B26-884F-427F-BD68-3C5E794D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8F0-E3F4-4B5E-9F04-FB621957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2114-F1E2-4D29-A25B-94BB212C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819-EECF-4A42-B776-109AD67B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907F-ED02-4A7E-858D-ABE98C0F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8C3-334F-443F-8621-B975B719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6BE4-BA8D-46E0-B967-A2DC5AC5B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верхностны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В, П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ач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гезия, коге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 дисперсны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ксотропия, синерез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етероген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гетерогенные систем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ые растворы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2592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сорбция на границе раствор – газ  - это самопроизвольной процесс, приводящий к уменьшению поверхностной энергии за счет уменьшения поверхностного нат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685800" y="4875840"/>
            <a:ext cx="513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 – абсолютная температу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54380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8"/>
          <p:cNvSpPr/>
          <p:nvPr/>
        </p:nvSpPr>
        <p:spPr>
          <a:xfrm>
            <a:off x="1447920" y="17524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228600" y="6094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ная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изует поведение вещества при адсорб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152388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 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76520" y="2895480"/>
            <a:ext cx="647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666440" y="959400"/>
            <a:ext cx="63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В: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g &g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l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gt;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g &lt; 0 ;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&gt;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Г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4920" y="249768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ерхностная активность предельных жирных кислот в водных растворах возрастает в 3 – 3,5 раза при удлинении углеводородной цепи на одно звено (группу –СН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эмпирическое правило Дюкл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Траубе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5334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533520" y="68580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ведении ПАВ в одну из жидкостей оно адсорбируется на границе раздела фаз и снижает межфазное поверхностное натя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382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5" name="AutoShape 4"/>
          <p:cNvCxnSpPr/>
          <p:nvPr/>
        </p:nvCxnSpPr>
        <p:spPr>
          <a:xfrm flipV="1">
            <a:off x="2133360" y="837360"/>
            <a:ext cx="53823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5"/>
          <p:cNvCxnSpPr/>
          <p:nvPr/>
        </p:nvCxnSpPr>
        <p:spPr>
          <a:xfrm>
            <a:off x="5257440" y="609480"/>
            <a:ext cx="108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6"/>
          <p:cNvSpPr/>
          <p:nvPr/>
        </p:nvSpPr>
        <p:spPr>
          <a:xfrm>
            <a:off x="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62120" y="3798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зическая адсорбция                 Химическая адсорб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1066680" y="806400"/>
            <a:ext cx="731520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ый процесс                                            Необратимый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ая специфичность   процесса                       Высокая специфичность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начительная теплота адсорбции                  Высокая теплота адсорбции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ышением температуры                              С повышение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сорб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емосорб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ьшается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 flipV="1" rot="10800000">
            <a:off x="0" y="229680"/>
            <a:ext cx="91425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мость процесса. При физической адсорбции имеет место динамическое равновесие: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рбция ↔ Десорб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838080" y="2521800"/>
            <a:ext cx="815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+            НСООН    →             С ∙ НСО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     адсорбтив   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НСООН           →           С            +             НС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        адсорбтив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228600" y="258120"/>
            <a:ext cx="822960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мо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         +           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→         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ент   адсорбтив       адсорбционный комплек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орб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∙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→                     С    +    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онный комплекс    адсорбент   новое хим. соедин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0" cy="16002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533520" y="28954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изотермы Ленгмю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609480" y="4653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сорб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макс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ельное значение адсорб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вновесное давление;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оян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6096240" cy="2514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228600" y="380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терма адсорбции Ленгм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105520" cy="23623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5638680" y="9907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l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иль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3378240" cy="30733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4191120" y="4267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θ &gt;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верхность гидрофобн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04800" y="533520"/>
            <a:ext cx="3357720" cy="487656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4"/>
          <p:cNvSpPr/>
          <p:nvPr/>
        </p:nvSpPr>
        <p:spPr>
          <a:xfrm>
            <a:off x="4267080" y="14479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сорбционное пон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вердост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 Ребинд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перс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04920" y="18277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исперсных систем характерны два общих призна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терог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перс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56"/>
          <p:cNvSpPr/>
          <p:nvPr/>
        </p:nvSpPr>
        <p:spPr>
          <a:xfrm>
            <a:off x="304920" y="350388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по структур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еляют 2 ви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обод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связаны между собой (суспензии, эмульсии, пены, аэрозоли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вязнодисперс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которых частицы дисперсной фазы не могут перемещаться своб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228600" y="3844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гезия (прилипание) – это взаимодействие между приведенными в контакт поверхностями конденсированных фаз разной природ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80880" y="19846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адгез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то работа обратимого разрыва адгезионной связи, отнесенная к единице площади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380880" y="3352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езия – это притяжение, взаимодействие между молекулами (атомами, ионами) в объеме данн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28600" y="45756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ой когезии Wc  называют  свободную энергию разделения тела на части и удаления их на такое расстояние, когда нарушается целостность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228600" y="391680"/>
            <a:ext cx="85345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оотношение работы когезии Wc и работы адгезии Wa служит для определения способности жидкостей смачивать твердые те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 &lt; 0,5 Wc         поверхность несмачи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0,5 Wc&lt;Wa&lt;Wc    полное  смачи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Wa&gt;Wc      растекание жидкости по поверхности твердого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304920" y="4343400"/>
            <a:ext cx="8534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ают два основных вида устойчивости дисперсных систем (Песков Н.П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диментацион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грегатив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4920" y="54072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У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льтрамикрогетерогенны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ойчивы, характерна диффузия, обеспечивающая равномерное распределение частиц по объему сис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истемы (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–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см) – устанавливается седиментационно-диффузное равновес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80880" y="266904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рубодисперс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(боле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) – неустойчивые системы, происходит быстрая седимент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28600" y="3962520"/>
          <a:ext cx="8305920" cy="2803320"/>
        </p:xfrm>
        <a:graphic>
          <a:graphicData uri="http://schemas.openxmlformats.org/drawingml/2006/table">
            <a:tbl>
              <a:tblPr/>
              <a:tblGrid>
                <a:gridCol w="1384200"/>
                <a:gridCol w="1382760"/>
                <a:gridCol w="1384200"/>
                <a:gridCol w="1384560"/>
                <a:gridCol w="1385640"/>
                <a:gridCol w="1384560"/>
              </a:tblGrid>
              <a:tr h="35100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д. см/с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 ∙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я за которое частица осаждается на 1 с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 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,7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,2 ча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9 с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3"/>
          <p:cNvSpPr/>
          <p:nvPr/>
        </p:nvSpPr>
        <p:spPr>
          <a:xfrm>
            <a:off x="380880" y="3465360"/>
            <a:ext cx="74883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седиментац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iO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зависимости от размера час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04920" y="383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Факторы устойчивости дисперс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:         термодинамические    и   кине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1764360"/>
            <a:ext cx="861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Термодинамическ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 это факторы, которые понижают поверхностное натяжение на границе частица – дисперсионная среда и тем самым понижают поверхностную энергию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лектростат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Адсорбционно-сольватный 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Энтропийны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80880" y="4676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Кинетические факто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вязаны с гидродинамическими свойствами дисперсионной среды, с замедлением сближения частиц, вызванного замедлением вытекания и разрушения прослоек дисперсионной среды между частиц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Структурно-механический фа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Гидродинамический фак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380880" y="3733920"/>
            <a:ext cx="8001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линивающе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 = р - р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П – расклинивающее д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и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давление в пленке и гидростатическое давление в окружающей пленку 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84872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305280"/>
            <a:ext cx="73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руктурированные дисперсны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4"/>
          <p:cNvSpPr/>
          <p:nvPr/>
        </p:nvSpPr>
        <p:spPr>
          <a:xfrm>
            <a:off x="762120" y="137160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агуляционные             Конденсационно-кристаллизаци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6"/>
          <p:cNvCxnSpPr/>
          <p:nvPr/>
        </p:nvCxnSpPr>
        <p:spPr>
          <a:xfrm flipH="1">
            <a:off x="2285280" y="762120"/>
            <a:ext cx="1143720" cy="381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2" name="Прямая со стрелкой 8"/>
          <p:cNvCxnSpPr/>
          <p:nvPr/>
        </p:nvCxnSpPr>
        <p:spPr>
          <a:xfrm>
            <a:off x="4800600" y="837720"/>
            <a:ext cx="1296000" cy="3819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3" name="Rectangle 2"/>
          <p:cNvSpPr/>
          <p:nvPr/>
        </p:nvSpPr>
        <p:spPr>
          <a:xfrm>
            <a:off x="533520" y="198792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ксотроп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ерези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большая проч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бух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зу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0"/>
          <p:cNvSpPr/>
          <p:nvPr/>
        </p:nvSpPr>
        <p:spPr>
          <a:xfrm>
            <a:off x="4420800" y="2209680"/>
            <a:ext cx="31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уго-хруп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1"/>
          <p:cNvSpPr/>
          <p:nvPr/>
        </p:nvSpPr>
        <p:spPr>
          <a:xfrm>
            <a:off x="4956480" y="274320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ч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35816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3"/>
          <p:cNvSpPr/>
          <p:nvPr/>
        </p:nvSpPr>
        <p:spPr>
          <a:xfrm>
            <a:off x="685800" y="304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ьматация – процесс естественного и искусственного вмывания мелких (главным образом глинистых и коллоидных) частиц в поры и трещины горных пор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09480" y="1414440"/>
            <a:ext cx="8153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 дисперсные системы, состоящие из двух (или нескольких) жидких ф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характеру жидкости дисперсной фазы и дисперсионной среды все эмульсии можно разбить на два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масла в воде  (м/в) или эмульсии первого рода (прям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ульсии воды в масле (в/м) или эмульсии второго рода (обрат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держанию вещества дисперсной фазы эмульсии подразделяют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бавленные, с массовой долей фазы до 0,1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до 74% (сохраняется сферическая форма частиц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оконцентрированны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массовой долей фазы больше 74%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80880" y="5562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алесценция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произвольное слияние капель дисперсной фаз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609480" y="923760"/>
            <a:ext cx="7848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время жизн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эмуль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ысота стол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корость расслоения эмульсий на фаз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3352680" cy="342900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4876920" y="419112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масла в воде олеатом нат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152280"/>
          <a:ext cx="8991720" cy="6303960"/>
        </p:xfrm>
        <a:graphic>
          <a:graphicData uri="http://schemas.openxmlformats.org/drawingml/2006/table">
            <a:tbl>
              <a:tblPr/>
              <a:tblGrid>
                <a:gridCol w="1504800"/>
                <a:gridCol w="1878120"/>
                <a:gridCol w="1532160"/>
                <a:gridCol w="407664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сперс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ло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о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 системы и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ые гетерогенные системы: минералы, сплавы, твердые з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спензии и золи: пульпы, взвеси, пасты, краски, золи металлов в в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пыли, дымы, порош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пиллярные системы: жидкость в пористых телах, адсорбенты в раствор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мульсии: нефть, кремы, молок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/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эрозоли: туманы, обла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д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истые тела: твердые пены, адсорбенты в газах, пемза, пенобетон, пеноплас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ид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/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ны: флотационные, противопожарные, мыльны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являются гетерогенными систем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49568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4"/>
          <p:cNvSpPr/>
          <p:nvPr/>
        </p:nvSpPr>
        <p:spPr>
          <a:xfrm>
            <a:off x="228600" y="48006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абилизации эмульсии воды в масле олеатом каль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3276360" cy="39625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49564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типа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5105520" y="380880"/>
            <a:ext cx="3124080" cy="3962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4952880" y="480420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молекул эмульгатора на капельках эмульсий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04920" y="396756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ильного порошка на поверхности капельки эмульсии м/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3124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4572000" y="396756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расположения частиц гидрофобного порошка на поверхности капельки эмульсии в/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581640" cy="3733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6576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3"/>
          <p:cNvSpPr/>
          <p:nvPr/>
        </p:nvSpPr>
        <p:spPr>
          <a:xfrm>
            <a:off x="995400" y="4572000"/>
            <a:ext cx="29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строения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4657320" y="4648320"/>
            <a:ext cx="41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 – пленки жидкости   2 - кан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5800" y="452520"/>
            <a:ext cx="701028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атность пен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β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п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бъем жидкости, использованной для получения п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685800" y="2617920"/>
            <a:ext cx="784872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и пе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т.е. время, в течение которого объем пены уменьшится вдвое, 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τ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 = 0,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/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609480" y="30240"/>
            <a:ext cx="8001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дисперс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тепени дисперсности частиц различ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бодисперс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 10-3 до 10-2см и более (грубые суспензии, песок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икрогетерогенные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размером частиц от10-4 до 10-5 см (эмульсии, тонкие суспензии, аэрозоли, порош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льтрамикрогетерог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стемы (коллоидно-дисперсные), с размером частиц от10-6 до 10-7см (зол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4920" y="328644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жфазному взаимодейств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интенсивности взаимодействия дисперсной фазы с дисперсионной средой различают лиофильные и лиофобные систе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иль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взаимодействием дисперсной фазой с дисперсной средой и при определенных уловиях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иофоб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характеризуются тем, что дисперсная фаза не способна взаимодействовать с дисперсионной средой, а следовательно и растворяться в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5"/>
          <p:cNvCxnSpPr/>
          <p:nvPr/>
        </p:nvCxnSpPr>
        <p:spPr>
          <a:xfrm>
            <a:off x="3657240" y="236196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AutoShape 6"/>
          <p:cNvCxnSpPr/>
          <p:nvPr/>
        </p:nvCxnSpPr>
        <p:spPr>
          <a:xfrm flipH="1">
            <a:off x="2894760" y="2361960"/>
            <a:ext cx="515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AutoShape 7"/>
          <p:cNvCxnSpPr/>
          <p:nvPr/>
        </p:nvCxnSpPr>
        <p:spPr>
          <a:xfrm>
            <a:off x="3504960" y="243792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AutoShape 8"/>
          <p:cNvCxnSpPr/>
          <p:nvPr/>
        </p:nvCxnSpPr>
        <p:spPr>
          <a:xfrm flipH="1">
            <a:off x="3123720" y="2437920"/>
            <a:ext cx="24840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AutoShape 9"/>
          <p:cNvCxnSpPr/>
          <p:nvPr/>
        </p:nvCxnSpPr>
        <p:spPr>
          <a:xfrm>
            <a:off x="3505320" y="2590560"/>
            <a:ext cx="34344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10"/>
          <p:cNvCxnSpPr/>
          <p:nvPr/>
        </p:nvCxnSpPr>
        <p:spPr>
          <a:xfrm>
            <a:off x="3504960" y="289512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Rectangle 15"/>
          <p:cNvSpPr/>
          <p:nvPr/>
        </p:nvSpPr>
        <p:spPr>
          <a:xfrm>
            <a:off x="0" y="262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7"/>
          <p:cNvCxnSpPr/>
          <p:nvPr/>
        </p:nvCxnSpPr>
        <p:spPr>
          <a:xfrm>
            <a:off x="3580920" y="2438280"/>
            <a:ext cx="343800" cy="2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Rectangle 18"/>
          <p:cNvSpPr/>
          <p:nvPr/>
        </p:nvSpPr>
        <p:spPr>
          <a:xfrm>
            <a:off x="609480" y="5119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е натяжение – это работа, затраченная на образование единицы поверх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3276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3"/>
          <p:cNvSpPr/>
          <p:nvPr/>
        </p:nvSpPr>
        <p:spPr>
          <a:xfrm>
            <a:off x="4879080" y="46486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04920" y="8370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ное натя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но рассматривать как меру избытка поверхностной энергии, приходящейся на единицу поверхности. Избыток возникает за счет некомпенсированности сил межмолекулярного взаимодействия у молекул поверхностного сло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219320" y="220824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активные вещества (ПА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хностно-инактивные вещества (ПИ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0880" y="35056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В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нижаю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верхностное натяж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80880" y="4343400"/>
            <a:ext cx="8458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647712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5"/>
          <p:cNvSpPr/>
          <p:nvPr/>
        </p:nvSpPr>
        <p:spPr>
          <a:xfrm>
            <a:off x="228600" y="27432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е поверхностного натяжения раствора ПАВ изображается с помощь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отерм поверхностного натя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оризонтальный участок которых отвечает предельному насыщению поверхностного слоя молекулами ПА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905120" y="4343400"/>
            <a:ext cx="54100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228600" y="53712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В имеют поверхностное натяжение больше, чем у (кривая 2). При больших концентрациях ПИВ поверхностное натяжение раствора, может несколько увеличиваться (кривая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4952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380880" y="28908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оцесс диспергирования идет в изотермических условиях и при постоянном объеме, то изменение энергии поверхности равно изменению изохорно-изотермического потенци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σ =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 изохорно-изотермический потенциал (поверхностная энерг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– площадь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04920" y="3069000"/>
            <a:ext cx="861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дсорбция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оцесс самопроизвольного перераспределения вещества между поверхностным слоем и объемом фазы. Фазу, на поверхности которой происходит адсорбци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ен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ещество, которое перераспределяется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дсорбтиво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ратный переход вещества из поверхностного слоя в объем фазы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сорбцие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380880" y="54853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глощаемое вещество диффундирует вглубь поглотителя и распределяется по объему, то это явление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бсорбци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3-04T17:26:3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