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FDC-8E20-4A1C-876B-FBACB3E8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16A-F1DF-4025-B887-C1D146DA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404-ED52-4FF2-B60B-C45A222F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59A-25B2-4828-8226-0AA0D628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55F-647C-49DB-8165-32CF4BD9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AF7-0BA5-4571-8933-CCED4000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DA6-B5A2-46CA-BEEE-1E154566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863-36CA-4991-943E-2CB439CC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98D-C947-4FC8-8A6F-931B15AF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548-3371-4A8C-AA79-7E0E7A68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A4B-A2BF-43EF-8777-6DC5C073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CE6-5C63-4C75-A62C-653BF75A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41C3-1E2E-479E-8C4E-F7AA3F38E0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рс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я в строительст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тор 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х.н., доц. Григорьева  Лариса Станислав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066680" y="48006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кур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и – 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ые работы –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52280" y="38592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термические реакции идут с поглощением тепл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имеет отрицательное значение, а энтальпия положите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отермические реакции, идут с выделением тепла.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вой эффект имеет положительное значение, а энтальпия 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2005200"/>
            <a:ext cx="80773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дотермическая реакция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+∆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зотермическая реакц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+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52280" y="282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акция происходит в конденсированных фазах,  то различиями межд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∆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ренеб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52280" y="38898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кона Гесса вытекают три важных след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нтальпия реакции равна разности энтальпий образования продуктов и реаген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52280" y="5444280"/>
            <a:ext cx="89917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прод.) – 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реа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07880" y="306720"/>
            <a:ext cx="82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если уравнение реакции в общем виде записат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52280" y="991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[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D) ]–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8600" y="19861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образования это тепловой эффект реакции  образовани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мо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единения из прост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е теплоты образования вычисляют при стандартных услови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8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 101325 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3942720"/>
            <a:ext cx="88394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(т)+ С (граф.) 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) = СаС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 1206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мохимических уравнениях применяют дробные коэффициенты для того, чтобы показать тепловой эффект реакции при образовани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о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28600" y="436680"/>
            <a:ext cx="8686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теплоту реа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С0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(г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аСОз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известны стандартные теплоты  образования   (из таблиц стандартных велич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2"/>
          <p:cNvCxnSpPr/>
          <p:nvPr/>
        </p:nvCxnSpPr>
        <p:spPr>
          <a:xfrm>
            <a:off x="4038120" y="2895480"/>
            <a:ext cx="10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4"/>
          <p:cNvSpPr/>
          <p:nvPr/>
        </p:nvSpPr>
        <p:spPr>
          <a:xfrm>
            <a:off x="498240" y="2487960"/>
            <a:ext cx="7479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98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ж /мо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371600" y="2872080"/>
            <a:ext cx="4952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;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Оз                    – 12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52280" y="4673520"/>
            <a:ext cx="883944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любой реакции равно разности между суммой теплот образования (энтальпий) продуктов реак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суммой энтальпий исходных проду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i="1" lang="ru-RU" sz="20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14560" y="406440"/>
            <a:ext cx="7072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,47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дет с выдел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183276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тальпия реакции равна разности энтальпий сгорания реагентов и проду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р = ∑ (∆H сгор.) (реаг.) –  ∑ (∆H сгор.) (про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31280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А + bB = cC + d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A) +b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B)] – [ c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280" y="4956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рмохимические уравнения реакций можно складывать и вычитать, умножать и делить, записывать справа налево, несмотря на подчас практическую неосуществимость обратны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52280" y="38448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ирование уравнений реакций и энтальп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третьему следствию из закона Г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1242360"/>
            <a:ext cx="82296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реа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 +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380880" y="3105000"/>
            <a:ext cx="815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 + S + 2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∆Hp =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52280" y="3861360"/>
            <a:ext cx="87631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римера можно рассмотреть и процесс образования диоксида углерода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0880" y="4929480"/>
            <a:ext cx="8872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й вариант: получение диоксида углерода, непосредственно сжигая уго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+ 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304920" y="154440"/>
            <a:ext cx="84582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вариант: проведение  процесса  в две стадии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 получение монооксида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 СО;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жигание монооксида углерода в токе кисл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=  С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76236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298680" y="5791320"/>
            <a:ext cx="1749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533520" y="338760"/>
            <a:ext cx="838188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о                         Энергия кристаллической решет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хкальциевый силикат                                        107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ит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ухкальциевый силикат                                        7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2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сид  кальция                                                         35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а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гашеная изве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2800" y="350568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ещество обладает наибольшей способностью к гидрат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4578480"/>
            <a:ext cx="830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химические данные помогают решать и вопросы, связанные с выбором охлаждающих сме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мораживании насыщенных водой пористых строительных материалов: кирпича, бетона, грунтов и т. п.  вода превращается  в лед, что приводит к разрушению этих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04920" y="39132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средств предотвращения льдообразования — растворение в воде различных веществ. Это необходимо, например, при борьбе с гололедом, при производстве бетонных работ в зимнее время и в некоторых других слу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строители для снижения температуры замерзания растворов применяют растворы солей сильных электролитов. Из них большой популярностью пользуются хлорид кальция и поваренная соль (хлорид натр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52280" y="3183840"/>
            <a:ext cx="84582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мешивать соль хлорида кальция с водой в различных массовых соотношениях, то образующиеся растворы солей замерзают при различных темпера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й температурой является температура —55 °С;  Этой температуре соответствует раствор с концентраци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1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5,75 кг на 100 кг воды. Такую, наименьшую температуру называют эвтектической от слова «эвтектика», что значит «хорошо обрабатываемый» (этот термин впервые был применен к сплавам) или криогидра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28600" y="384840"/>
            <a:ext cx="848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тектика -  жидкая система (раствор или расплав), находящаяся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м давлении в равновесии с твёрдыми фазами, число которых равно  числу компонентов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609480" y="183384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ом раствора хлорида кальция перед многими другими солями, в том числе и перед более дешевой поваренной солью, является низкое значение его эвтектической температуры. Так, если ввести в грунт хлорид кальция, то он не замерзнет при низких температу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04920" y="343404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рзшийся грунт легко уплотняется обычными средств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«холодного» бетона это важное свойство хлорида кальция удачно сочетается с тем, что он значительно ускоряет твердение цемента, причем может одновременно несколько пластифиц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920" y="511056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енную соль, эвтектическая температура раствора которой ра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1,2 °С, можно применять при менее суровых условиях зимы, причем следует учесть, что ее действие как ускорителя твердения цементов выражено слабее, чем у хлорида каль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28600" y="312120"/>
            <a:ext cx="880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первого начала термодинамики составляют энергетический балан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может быть представлен в виде уравнения, связывающего приход и расход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имико-технологических процессов составляют тепловой баланс. Применительно к тепловому балансу закон сохранения энергии можно сформулировать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8600" y="244512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 теплоты в данном цикле производства должен быть точно равен расходу ее в этом же цик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лжно быть учтено теплосодержание каждого компонента, как входящего, так и выходящего из процесса или аппарата, а также теплообмен с окружающе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52280" y="457704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теплового балан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= ΣQрас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Qрасх = 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33520" y="304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и второе начала термодинам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85800" y="1981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Первое начало термодинамики. Энталь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858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Закон Гесса, след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85800" y="2895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Второе начало термодинамики. Энтр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85800" y="3352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Энергия Гельмгольца. Энергия Гибб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85800" y="3886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Некоторые вопросы  химической кине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429000" y="914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685800" y="43434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Химическое равновесие. Принцип Ле-Шателье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52280" y="4636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ппаратов (процессов) непрерывного действия тепловой баланс составляют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у 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ля аппаратов (процессов) периодического действ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ремя цик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отдельного перехода) об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баланс подобно материальному, выражают в виде таблиц, диаграмм, а для расчета используют следующее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22104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 + Qж + Qг + Qф + Qр + Qп = Q'т + Q'ж + Q'г + Q'ф + Q'р + Q'п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28600" y="259740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ж ,Q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носимое в аппарат твердыми, жидкими и газообразными веществами соответствен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т, Q'ж, Q'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теплоты, уносимое из аппарата выходящими продуктами, полупродуктами реакции и не прореагировавшими исходными веществами в твердом, жидком и газообразном ви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28600" y="41169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ф и Q'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физических процессов, происходящих с выделением и поглощением (Q'ф) тепл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52280" y="473184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р и Q'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ыделяющееся в результате экзо- и эндотермических реакций (Q'р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подводимое в аппарат извне (в виде дымовых газов, нагретого воздуха, сжигания топлива, электроэнергии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тепла в окружающую среду, а также отвод тепла через холодильники, помещенные внутри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229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52280" y="9972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к передаче тепла от холодного тела к горячему, тогда как передача тепла от горячего тела к холодному может быть  единственным результатом процессов (Клаузиу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2901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только к превращению теплоты в работу, тогда как превращение работы в теплоту может быть единственным результатом процессов (Томс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879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озможно создание вечного двигателя второго рода (Остваль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80880" y="42706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, полученное для цикла Карно, является математическим выражением второго начала термодинами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А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5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10824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143000" y="153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: самопроизвольные неравновесные и равновес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52280" y="9248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протекающие без затрат извне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ым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оцессы могут происходить как в изолированной системе, так и  откры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которые совершаются только в результате воздействия извне,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в изолированной системе происходить не могут. Для осуществления таких процессов требуется передача энергии со стороны окружающей среды в форме теплоты или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28600" y="427392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обратимые и необратимые химические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в ходе которых хотя бы одно из исходных веществ расходуется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протекающие одновременно в двух взаимно противоположных направ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380880" y="3581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ий самопроизвольный процесс в конечном итоге приводит систему к равновесию. Равновесие достигается и в химических реак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52280" y="2257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процессы являются истинно необратимыми. Их никаким способом нельзя провести как обратимые. Это процессы, единственным результатом  которых является превращение работы  в теплоту (например, механическое трение твердых поверхностей, внутреннее трение в жидкостях и газах, теплопроводность). Необратимые самопроизвольные процессы протекают в направлении, которое приближает систему к состоянию равновесия и связаны с передачей теплоты или беспорядочным движением молек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04920" y="3359520"/>
            <a:ext cx="838188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цикла Карно приводит к представлению об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ή = А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- (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ило назва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ной тепл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28600" y="39132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 постулирует, что существует важнейшее физическое свойство систем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, ее изменение в равновесном изотермическом процессе равно приведенной тепло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ля элементарного процесса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изменение энтропии происходит под действием энергии, передаваемой в виде теп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04920" y="3256920"/>
            <a:ext cx="845820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 состоян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е изменение определяется энтропией начального и конечного состояния системы и не зависит от пути пере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экстенсивное свойство. Это означает, что общая энтропия системы равна сумме энтропий составных ча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5158080"/>
            <a:ext cx="85345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= 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изменение энтропии кругового процесса записывается та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4038480" y="5791320"/>
            <a:ext cx="225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52280" y="37656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равнение справедливо для любого замкнутого цикла, в том числе и для самопроизвольны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.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процессах отличаются только приведенны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: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&gt;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80880" y="2746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я уравнения 7 и 8 получаем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/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≤ T d 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04920" y="3812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равенство Клаузиуса представляет собой аналитическое выражение второго начала термодинам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4731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решение уравнений  2 и 9 дает объединенное уравнение первого и второго начал термодинам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52280" y="311400"/>
            <a:ext cx="853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статистической природы второго начала термодинамики позволило  Больцману определить статистический смысл энтропи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ln W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Больцма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вероя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28600" y="19886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зависит от всех видов движения частиц, содержащихся  в молек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данного вещества энтропия возрастает при всех процессах, вызываемых движением частиц (испарение, плавление, диффузия). Энтропия возрастает при ослаблении связей между атомами в молекулах и при разрыве их. Наоборот, с упрочнением связей энтропия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33520" y="3966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неупорядоченности состояния систем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самопроизвольном протекании процесса в изолированной системе ее энтропия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503568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энтроп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и предел течения самопроизвольных процессов для изолирован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не могут быть критерием направленности реальных химически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152280" y="997920"/>
            <a:ext cx="86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внутренней энергии, способную к превращениям и производству полезной работы. Для изохорного процесса эту энергию Гельмгольц назва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ункция или энергия Гельмгольца, изохорно-изотермический или просто изохорный потенциал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часть теряется в виде теплоты и связана с энтропией тела и температурой процесс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язанная энерг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29023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умма свободной и связанной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: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47264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о-изотермически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ся соотношен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55630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≤ -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- (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600200" y="306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. Энергия Гибб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304920" y="5934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равенства относится к равновесному процессу, знак меньше к самопроизволь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304920" y="309960"/>
            <a:ext cx="8307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барно-изотермическом процесс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я обозначается термодинамической функцией энергией Гибб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свободная энтальпия, изобарно-изотермический или изобарный потенци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04920" y="2443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оцесса равна  сумм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04920" y="54900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самопроизвольности процесса является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равновесия систем с постоянным составо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685800" y="35812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солютные значения энергии Гиббса и энергии Гельмгольца определить невозможно, поэтому определяют только изменения этих термодинамических потенциа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76212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иббса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∆ Н 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ое начало термодинамики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380880" y="1224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– это наука, которая изучает законы взаимного превращения различных видов энергии при физических и химических процессах, определяет зависимость энергетического эффекта этих процессов от условий их протек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80880" y="2594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имической термодинамике рассматриваются основные термодинамические законы применительно к химическим и физико-химическим процесс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3742560"/>
            <a:ext cx="838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ая термодинамика изу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я между теплотой и другими формами энергии в процессе химических реа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самопроизвольного протекания химических реакций в данны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, при которых реакция находится в состоянии химического равнове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516960"/>
            <a:ext cx="83059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, возможно ли, самопроизвольное протекание данной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(г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а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шения необходимо найти свободную энергию 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∆ Н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тальпию реакции рассчитываем, используя следствия из закона Г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80880" y="2718360"/>
            <a:ext cx="84582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стандартные величины, находим изменение энтро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2,9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3,6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,7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4920" y="4804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=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= 0,0929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(0,0397 + 0,2136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604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98∙(-0,1604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7,67 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58694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реакция идет с уменьшением свободной энергии (энергии Гиббса), т. е. протекае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380880" y="626040"/>
            <a:ext cx="815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кон термодинамики нарушений не знает, а второй в силу его статистического характера может нарушаться. Если окажется, что второй закон нарушен, то это значит, что совершился маловероятный, но в принципе возможный проц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явление незначительных и кратковременных самопроизвольных отклонений от состояния равновесия носит назван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кту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грает существенную роль в ряде физико-химических превращений, например, в возникновении кристаллов из пересыщенных растворов, что очень важно для понимания процессов твердения вяжущих веществ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флуктуации плотности в небольших частях объема концентрация вещества оказывается несколько большей, чем средняя концентрация того же вещества во всем объеме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04920" y="4880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тывает ни фактора времени, ни фактора скорости; о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ует лишь о принципиальной возможности осуществления того или ин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28600" y="9208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ми скорости реакций занимается химическая кинет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кинетика — это учение о скоростях реакций, т. е. о процессах, в которых в отличие от термодинамики время в явной или неявной форме фигурирует обязате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й кинетики является и изучение механизма химически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219320" y="22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вопросы химической кин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3520" y="2607480"/>
            <a:ext cx="86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е механизма реакции входят данные о ее промежуточных стадиях, о скорости и последовательности протекания этих стадий, позволяющие установить, какая из них как самая медленная. Так как именно она будет определять кинетику всего процесс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огенные реакции протекают в одной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терогенные – на поверхности раздела ф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4362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609480" y="54216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о  скорость химической реакции характеризуют изменением концентрации реагирующих веществ в единицу време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редняя скорость реакции. Истинную скорость процесса определяют изменением концентрации  за бесконечно малый промежуток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80880" y="28231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реакции всегда положительна. Знак минус указывает, что расчет ведется по концентрации исходных продуктов, а знак плю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концентрации коне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0880" y="396972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скорости реакции  от концентрации реагирующих веществ является постулатом химической кинет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ном действующих масс Гульдберга и Ваге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оянной температуре скорость химической реакции прямо пропорциональна произведению концентраций реагирующих веществ, возведенных в некоторые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228600" y="699120"/>
            <a:ext cx="86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акции:              А + В =  Д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 ∙ С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константа скорости проц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терогенные реакции имеют некоторые принципиальные особенности, отличающие их от гомогенных, которые необходимо учитывать в строительной прак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при взаимодействии твердого вещества с жидкостью (например, известняка с кислотой) суммарная макроскопическая скорость реакции в общем   виде   зависит   не   только   от концентрации кислоты, но и от реакционной поверхност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'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8600" y="43484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дко значение поверхности, если она в ходе реакции практически не изменяется, входит в константу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гетерогенного процесса лимитируется скоростью самой медленной ста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304920" y="362160"/>
            <a:ext cx="853416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химической реакции сильно изменяется с температурой. С повышением температуры она растет и лишь у некоторых многостадийных реакций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ая зависимость в основном определяется константой скорости. Для приблизительных расчетов в небольшом температурном интервале можно использовать правило Вант-Гофф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ышении температуры на каждые десять градусов скорость химической реакции увеличивается в 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+1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80880" y="38883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ературный коэффициент скорости химической реа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анта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28600" y="2336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начало (закон) термодинамики непосредственно связано с законом сохранения и превращения энергии, который устанавливает эквивалентность ее форм. Этот закон является универсальным и подтверждается всем опытом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16801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 всех явлениях природы энергия не может исчезнуть бесследно или возникнуть из ничего. Энергия только превращается из одной формы в другую в строго эквивалентных соотношения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66480" y="266760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этот закон формулируют в другой форм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3051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чный двигатель первого рода невозможен, т.е. невозможно построить машину, которая выполняла бы механическую работу, не затрачивая на это соответствующего количества молекулярной энерг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41252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тела в природе независимо от их агрегатного состояния облад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ным запасом энерг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 энергия складывается из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инетической энергии молек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нергии колебательного движения атомов, энергии электронов, внутриядерной энергии, энергии взаимодействия молеку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еречисленные энергии за исключением кинетической энергии системы в целом и потенциальной энергии ее положения в пространстве,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юю энерг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2280" y="46368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—совокупность тел, выделенных фактически или мысленно из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ы, объем и энергия которых постоянны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лирова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ояние системы характеризу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аметрам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ом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лением 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турой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ацией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280" y="244512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, не зависящие от пути перехода системы из одного состояния в другое, а зависящие только от начального и конечного состояний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ми состоя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, внутренняя энергия тел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е в изолированной системе внутренняя энергия постоянна и определяется природой составляющих ее веществ, их массой и условиями сущ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4285800"/>
            <a:ext cx="8839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ое значение внутренней энергии определить невозможно, можно только измерить изменение внутренней энергии при переходе системы из одного состояния в другое. Если термодинамическая система с внутренней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еходит в другое состояние с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изменение внутренней энергии  ∆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зависит от пути перехода, а зависит только от начального и конечного состояния системы, определяемого параметрами состояни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2280" y="305532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бо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м ви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ляю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ми состоя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между внутренней энергией, теплотой  и работой устанавливается на основе первого начала термодинамик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может изменяться только под влиянием внешних воздействий, то есть в результате сообщения системе количества теплоты Q и совершения над ней работы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6800" y="5564520"/>
            <a:ext cx="823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, подводимая к системе, идет на приращение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и на совершение работы против внешних сил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763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А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уравнение представляет собой математическую формулировку первого закона термодина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охорном процесс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теплота равна приращению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все тепло расходуется на изменение внутренней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3148200"/>
            <a:ext cx="899172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 изобарном процес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совершается только работа расши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                    где  А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        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Н, 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Н.  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ш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функция, называемая энтальпией  (тепловая функция или теплосодержание систем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характеризует внутреннее состояние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смысл энталь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сли процесс идет при постоянном давлени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то изменение энтальпии будет включать в себя изменение внутренней энергии и то количества тепла, которое расходуется на расширение системы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едставляет собой энергию расшире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280" y="35118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теплота изобарного процесса равна приращению энтальпии системы во время эт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хорном и изобарном процессах теплота становится функцией состояния. Она не зависит от пути процесса, а зависит только от начального и конечного состояния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1631160"/>
            <a:ext cx="91440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химических реакциях происходит изменение внутренней энергии системы. Есл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разность внутренних энерги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ется в вид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величении внутренней энергии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реакция идет с поглощ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теплоты, выделяющееся или поглощающееся при реакции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ывается тепловым эффек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3986280"/>
            <a:ext cx="78487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ый процесс: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    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арный процесс: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ответствует     ∆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300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есса. След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22860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химической реакции зависит только от вида и состояния исходных веществ и конечных продуктов, но не зависит от промежуточных состояний и путей перех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 Гес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1371600" y="762120"/>
            <a:ext cx="7772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В              →             С+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е реагенты            продукты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2-15T09:56:07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