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86C-0250-4D01-A490-72A2BE35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0EA-DF8D-48A1-B7F5-BC53E1AA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B58-7B62-4498-8218-1D6937AD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149-09EC-4D38-95AD-40EE2304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70C-F978-4778-8D7C-7E9F93C7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7CC-18CA-4A6B-BB6B-2F13E544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F73-CC9A-402E-BA41-86285A32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0F7-5481-45DC-BE7D-80F80C0A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832-F4F1-4D53-8F09-91529D8B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194-E16B-4A25-AD05-2FCEA66B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C39-5039-4992-A663-774BE75E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61D-41E6-4D34-B958-72B4B925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CDF0-8904-4991-9EF3-057728816C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рхност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, П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гезия, коге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сть дисперсны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ксотропия, синер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гетероген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гетерогенные систем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ые раствор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259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  - это самопроизвольной процесс, приводящий к уменьшению поверхностной энергии за счет уменьшения поверхностного натя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85800" y="4875840"/>
            <a:ext cx="513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– абсолютная температу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1447920" y="1752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8600" y="6094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ая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 поведение вещества при адсорб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380880" y="15238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    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6476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666440" y="959400"/>
            <a:ext cx="63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В: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g &g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l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g &l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g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04920" y="24976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предельных жирных кислот в водных растворах возрастает в 3 – 3,5 раза при удлинении углеводородной цепи на одно звено (группу –СН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эмпирическое правило Дюкл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рауб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5334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533520" y="6858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ведении ПАВ в одну из жидкостей оно адсорбируется на границе раздела фаз и снижает межфазное поверхностное нат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5" name="AutoShape 4"/>
          <p:cNvCxnSpPr/>
          <p:nvPr/>
        </p:nvCxnSpPr>
        <p:spPr>
          <a:xfrm flipV="1">
            <a:off x="2133360" y="837360"/>
            <a:ext cx="53823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5"/>
          <p:cNvCxnSpPr/>
          <p:nvPr/>
        </p:nvCxnSpPr>
        <p:spPr>
          <a:xfrm>
            <a:off x="5257440" y="609480"/>
            <a:ext cx="108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6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62120" y="3798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ая адсорбция                 Химическая адсорб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66680" y="806400"/>
            <a:ext cx="73152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ый процесс                                            Необратимы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ая специфичность   процесса                       Высокая специфичность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начительная теплота адсорбции                  Высокая теплота адсорбци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вышением температуры                              С повышен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мо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ьшается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 flipV="1" rot="10800000">
            <a:off x="0" y="229680"/>
            <a:ext cx="91425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ость процесса. При физической адсорбции имеет место динамическое равновесие: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рбция ↔ Десорб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38080" y="2521800"/>
            <a:ext cx="815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+            НСООН    →             С ∙ НСО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     адсорбтив   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НСООН           →           С            +             НС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        адсорбтив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28600" y="258120"/>
            <a:ext cx="82296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емо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  +           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→         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адсорбтив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→                     С    +    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новое хим. соедин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533520" y="2895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изотермы Ленгмю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09480" y="4653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мак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ельное значение адсорб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вновесное давление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09624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28600" y="380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терма адсорбции Ленгмю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105520" cy="23623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5638680" y="9907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l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иль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378240" cy="3073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4191120" y="4267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g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об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04800" y="533520"/>
            <a:ext cx="3357720" cy="4876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4267080" y="1447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сорбционное пон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ост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 Ребин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18277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исперсных систем характерны два общих призна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терог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перс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56"/>
          <p:cNvSpPr/>
          <p:nvPr/>
        </p:nvSpPr>
        <p:spPr>
          <a:xfrm>
            <a:off x="304920" y="350388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о струк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ют 2 ви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обод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связаны между собой (суспензии, эмульсии, пены, аэрозол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яз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могут перемещаться своб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228600" y="3844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гезия (прилипание) – это взаимодействие между приведенными в контакт поверхностями конденсированных фаз разной природ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19846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адгез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работа обратимого разрыва адгезионной связи, отнесенная к единице площади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380880" y="3352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езия – это притяжение, взаимодействие между молекулами (атомами, ионами) в объеме данн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8600" y="4575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ой когезии Wc  называют  свободную энергию разделения тела на части и удаления их на такое расстояние, когда нарушается целостность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228600" y="391680"/>
            <a:ext cx="8534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оотношение работы когезии Wc и работы адгезии Wa служит для определения способности жидкостей смачивать твердые те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 &lt; 0,5 Wc         поверхность несмач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0,5 Wc&lt;Wa&lt;Wc    полное  сма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&gt;Wc      растекание жидкости по поверхности тверд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04920" y="434340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два основных вида устойчивости дисперсных систем (Песков Н.П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диментацион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регатив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4920" y="54072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ьтрамикрогетероге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ойчивы, характерна диффузия, обеспечивающая равномерное распределение частиц по объему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истемы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анавливается седиментационно-диффузное равновес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0880" y="266904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бодисперс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(боле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) – неустойчивые системы, происходит быстрая седимент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3962520"/>
          <a:ext cx="8305920" cy="2803320"/>
        </p:xfrm>
        <a:graphic>
          <a:graphicData uri="http://schemas.openxmlformats.org/drawingml/2006/table">
            <a:tbl>
              <a:tblPr/>
              <a:tblGrid>
                <a:gridCol w="1384200"/>
                <a:gridCol w="1382760"/>
                <a:gridCol w="1384200"/>
                <a:gridCol w="1384560"/>
                <a:gridCol w="1385640"/>
                <a:gridCol w="1384560"/>
              </a:tblGrid>
              <a:tr h="35100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д. см/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за которое частица осаждается на 1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,7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,2 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9 с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"/>
          <p:cNvSpPr/>
          <p:nvPr/>
        </p:nvSpPr>
        <p:spPr>
          <a:xfrm>
            <a:off x="380880" y="3465360"/>
            <a:ext cx="74883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седимент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iO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зависимости от размера час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304920" y="383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акторы устойчивости дисперс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:         термодинамические    и   кинет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1764360"/>
            <a:ext cx="861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ермодинам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 это факторы, которые понижают поверхностное натяжение на границе частица – дисперсионная среда и тем самым понижают поверхностную энергию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лектростат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сорбционно-сольватный 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нтропийны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80880" y="46764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инет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вязаны с гидродинамическими свойствами дисперсионной среды, с замедлением сближения частиц, вызванного замедлением вытекания и разрушения прослоек дисперсионной среды между част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труктурно-механ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идродинамический фак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80880" y="3733920"/>
            <a:ext cx="8001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линивающе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 = р - 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П – расклинивающее д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и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авление в пленке и гидростатическое давление в окружающей пленку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3052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ированные дисперсны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762120" y="13716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гуляционные             Конденсационно-кристалл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6"/>
          <p:cNvCxnSpPr/>
          <p:nvPr/>
        </p:nvCxnSpPr>
        <p:spPr>
          <a:xfrm flipH="1">
            <a:off x="2285280" y="762120"/>
            <a:ext cx="1143720" cy="381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2" name="Прямая со стрелкой 8"/>
          <p:cNvCxnSpPr/>
          <p:nvPr/>
        </p:nvCxnSpPr>
        <p:spPr>
          <a:xfrm>
            <a:off x="4800600" y="837720"/>
            <a:ext cx="1296000" cy="381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3" name="Rectangle 2"/>
          <p:cNvSpPr/>
          <p:nvPr/>
        </p:nvSpPr>
        <p:spPr>
          <a:xfrm>
            <a:off x="533520" y="198792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ксотроп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ер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большая проч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ух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зуч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4420800" y="2209680"/>
            <a:ext cx="31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уго-хрупки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4956480" y="274320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58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83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685800" y="304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матация – процесс естественного и искусственного вмывания мелких (главным образом глинистых и коллоидных) частиц в поры и трещины горных по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09480" y="1414440"/>
            <a:ext cx="815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 дисперсные системы, состоящие из двух (или нескольких) жидких ф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характеру жидкости дисперсной фазы и дисперсионной среды все эмульсии можно разбить на два ви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масла в воде  (м/в) или эмульсии первого рода (прям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воды в масле (в/м) или эмульсии второго рода (обрат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одержанию вещества дисперсной фазы эмульсии подразделяют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бавленные, с массовой долей фазы до 0,1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до 74% (сохраняется сферическая форма част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о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больше 74%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80880" y="5562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алесценция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произвольное слияние капель дисперсной фаз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609480" y="923760"/>
            <a:ext cx="7848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ремя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муль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ысота стол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расслоения эмульсий на фаз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4876920" y="4191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масла в воде олеатом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152280"/>
          <a:ext cx="8991720" cy="6303960"/>
        </p:xfrm>
        <a:graphic>
          <a:graphicData uri="http://schemas.openxmlformats.org/drawingml/2006/table">
            <a:tbl>
              <a:tblPr/>
              <a:tblGrid>
                <a:gridCol w="1504800"/>
                <a:gridCol w="1878120"/>
                <a:gridCol w="1532160"/>
                <a:gridCol w="407664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системы и 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ые гетерогенные системы: минералы, сплавы, твердые з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спензии и золи: пульпы, взвеси, пасты, краски, золи металлов в в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пыли, дымы, порош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иллярные системы: жидкость в пористых телах, адсорбенты в раствор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ульсии: нефть, кремы, молок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туманы, обла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истые тела: твердые пены, адсорбенты в газах, пемза, пенобетон, пенопла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ны: флотационные, противопожарные, мы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являются гетерогенными систем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28600" y="48006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воды в масле олеатом каль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3276360" cy="39625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7200" y="495648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типа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124080" cy="3962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952880" y="48042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04920" y="396756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ильного порошка на поверхности капельки эмульсии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03884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4572000" y="396756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обного порошка на поверхности капельки эмульсии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733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19076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995400" y="4572000"/>
            <a:ext cx="29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роения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4657320" y="464832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пленки жидкости   2 - ка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85800" y="452520"/>
            <a:ext cx="70102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тность пе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β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жидкости, использованной для получения п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5800" y="2617920"/>
            <a:ext cx="78487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ойчивости пе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.е. время, в течение которого объем пены уменьшится вдвое, 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= 0,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09480" y="3024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диспер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тепени дисперсности частиц различ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убодисперс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 10-3 до 10-2см и более (грубые суспензии, пес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икрогетероген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10-4 до 10-5 см (эмульсии, тонкие суспензии, аэрозоли, порош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льтра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стемы (коллоидно-дисперсные), с размером частиц от10-6 до 10-7см (зол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328644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жфазному взаимодейств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интенсивности взаимодействия дисперсной фазы с дисперсионной средой различают лиофильные и лиофобные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иль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взаимодействием дисперсной фазой с дисперсной средой и при определенных уловиях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об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тем, что дисперсная фаза не способна взаимодействовать с дисперсионной средой, а следовательно и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5"/>
          <p:cNvCxnSpPr/>
          <p:nvPr/>
        </p:nvCxnSpPr>
        <p:spPr>
          <a:xfrm>
            <a:off x="3657240" y="236196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6"/>
          <p:cNvCxnSpPr/>
          <p:nvPr/>
        </p:nvCxnSpPr>
        <p:spPr>
          <a:xfrm flipH="1">
            <a:off x="2894760" y="2361960"/>
            <a:ext cx="515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7"/>
          <p:cNvCxnSpPr/>
          <p:nvPr/>
        </p:nvCxnSpPr>
        <p:spPr>
          <a:xfrm>
            <a:off x="3504960" y="243792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AutoShape 8"/>
          <p:cNvCxnSpPr/>
          <p:nvPr/>
        </p:nvCxnSpPr>
        <p:spPr>
          <a:xfrm flipH="1">
            <a:off x="3123720" y="2437920"/>
            <a:ext cx="24840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AutoShape 9"/>
          <p:cNvCxnSpPr/>
          <p:nvPr/>
        </p:nvCxnSpPr>
        <p:spPr>
          <a:xfrm>
            <a:off x="3505320" y="2590560"/>
            <a:ext cx="34344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10"/>
          <p:cNvCxnSpPr/>
          <p:nvPr/>
        </p:nvCxnSpPr>
        <p:spPr>
          <a:xfrm>
            <a:off x="3504960" y="2895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Rectangle 15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7"/>
          <p:cNvCxnSpPr/>
          <p:nvPr/>
        </p:nvCxnSpPr>
        <p:spPr>
          <a:xfrm>
            <a:off x="3580920" y="2438280"/>
            <a:ext cx="3438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Rectangle 18"/>
          <p:cNvSpPr/>
          <p:nvPr/>
        </p:nvSpPr>
        <p:spPr>
          <a:xfrm>
            <a:off x="609480" y="5119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е натяжение – это работа, затраченная на образование единиц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3276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4879080" y="464868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04920" y="8370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рассматривать как меру избытка поверхностной энергии, приходящейся на единицу поверхности. Избыток возникает за счет некомпенсированности сил межмолекулярного взаимодействия у молекул поверхностного сло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219320" y="220824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активные вещества (П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инактивные вещества (ПИ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0880" y="3505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ниж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ерхностное натя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458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47712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28600" y="27432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поверхностного натяжения раствора ПАВ изображается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терм поверхностного натя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оризонтальный участок которых отвечает предельному насыщению поверхностного слоя молекулами П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905120" y="4343400"/>
            <a:ext cx="5410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228600" y="5371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В имеют поверхностное натяжение больше, чем у (кривая 2). При больших концентрациях ПИВ поверхностное натяжение раствора, может несколько увеличиваться (кривая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4952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80880" y="289080"/>
            <a:ext cx="8534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цесс диспергирования идет в изотермических условиях и при постоянном объеме, то изменение энергии поверхности равно изменению изохорно-изотермического потенц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σ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изохорно-изотермический потенциал (поверхностная энерг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– площадь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04920" y="30690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сорбция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оцесс самопроизвольного перераспределения вещества между поверхностным слоем и объемом фазы. Фазу, на поверхности которой происходит адсорбци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ещество, которое перераспределяетс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тив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тный переход вещества из поверхностного слоя в объем фазы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сорбци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80880" y="54853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глощаемое вещество диффундирует вглубь поглотителя и распределяется по объему, то это явление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бсорб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3-04T17:26:3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