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39E9D-C93E-487F-B117-D8640E9DC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03FC0-6AD8-4A4F-99FF-895A86655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EB937-E9E2-427D-8CBA-CCEF7DA3B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1A7FB-0513-419B-82BA-6E72BC2D7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2E417-1623-4545-ADD0-77D532C44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529AC-8F23-406D-B44E-3084DBE24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68178-DA5F-4C98-940E-4E4FD02FC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FC5E7-5394-4F01-8C6C-4A4B9821C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B9D4B-0B79-42FF-A57D-D422A86C7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4C6EF-85DE-4589-AB75-A26DAE1E6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FB002-3A39-4F3F-9020-EF42C8665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94763-B0D4-45C6-9BDD-403D2FF0F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E7978-FE22-4906-A794-5C061D8B67D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оррозия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троительных материал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Прямоугольник 3"/>
          <p:cNvSpPr/>
          <p:nvPr/>
        </p:nvSpPr>
        <p:spPr>
          <a:xfrm>
            <a:off x="457200" y="38088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Коррозия металло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от позднелат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rosio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 разъедание) – это физико-химическое взаимодействие металлических материалов и окружающей сред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1"/>
          <p:cNvSpPr/>
          <p:nvPr/>
        </p:nvSpPr>
        <p:spPr>
          <a:xfrm>
            <a:off x="457200" y="2072520"/>
            <a:ext cx="8229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пособность металлов сопротивляться воздействию среды называется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коррозионной стойкостью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или химическим сопротивлением материал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реда, в которой протекают коррозионные процессы, является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коррозионной средо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, металл, подвергающийся коррозии -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корродирующий металл,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химические продукты, образующиеся в результате коррозии называются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родуктами коррози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1"/>
          <p:cNvSpPr/>
          <p:nvPr/>
        </p:nvSpPr>
        <p:spPr>
          <a:xfrm>
            <a:off x="228600" y="466920"/>
            <a:ext cx="8610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409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Классификации процессов коррози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09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81080" algn="just">
              <a:buClr>
                <a:srgbClr val="000000"/>
              </a:buClr>
              <a:buFont typeface="Arial"/>
              <a:buChar char="•"/>
              <a:tabLst>
                <a:tab algn="l" pos="409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Классификация по механизму коррозионных процесс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81080" algn="just">
              <a:buClr>
                <a:srgbClr val="000000"/>
              </a:buClr>
              <a:buFont typeface="Arial"/>
              <a:buChar char="•"/>
              <a:tabLst>
                <a:tab algn="l" pos="409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Классификация по виду коррозионной сред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81080" algn="just">
              <a:buClr>
                <a:srgbClr val="000000"/>
              </a:buClr>
              <a:buFont typeface="Arial"/>
              <a:buChar char="•"/>
              <a:tabLst>
                <a:tab algn="l" pos="409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Классификация по характеру изменения поверхности металлических материал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"/>
          <p:cNvSpPr/>
          <p:nvPr/>
        </p:nvSpPr>
        <p:spPr>
          <a:xfrm>
            <a:off x="228600" y="2975760"/>
            <a:ext cx="807732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Классификация по механизму коррозионных процессов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18108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химическа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8108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электрохимическа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3"/>
          <p:cNvSpPr/>
          <p:nvPr/>
        </p:nvSpPr>
        <p:spPr>
          <a:xfrm>
            <a:off x="304920" y="4345920"/>
            <a:ext cx="792468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Классификация по виду коррозионной сре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Газовая корроз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оугольник 6"/>
          <p:cNvSpPr/>
          <p:nvPr/>
        </p:nvSpPr>
        <p:spPr>
          <a:xfrm>
            <a:off x="396720" y="5181480"/>
            <a:ext cx="360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Атмосферная корроз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Прямоугольник 7"/>
          <p:cNvSpPr/>
          <p:nvPr/>
        </p:nvSpPr>
        <p:spPr>
          <a:xfrm>
            <a:off x="394200" y="5715000"/>
            <a:ext cx="309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Почвенная корроз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рямоугольник 8"/>
          <p:cNvSpPr/>
          <p:nvPr/>
        </p:nvSpPr>
        <p:spPr>
          <a:xfrm>
            <a:off x="401400" y="6248520"/>
            <a:ext cx="276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Морская корроз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Прямоугольник 9"/>
          <p:cNvSpPr/>
          <p:nvPr/>
        </p:nvSpPr>
        <p:spPr>
          <a:xfrm>
            <a:off x="5955480" y="4648320"/>
            <a:ext cx="200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Биокорроз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Прямоугольник 10"/>
          <p:cNvSpPr/>
          <p:nvPr/>
        </p:nvSpPr>
        <p:spPr>
          <a:xfrm>
            <a:off x="5579640" y="5105520"/>
            <a:ext cx="323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Контактная корроз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рямоугольник 11"/>
          <p:cNvSpPr/>
          <p:nvPr/>
        </p:nvSpPr>
        <p:spPr>
          <a:xfrm>
            <a:off x="5196240" y="5638680"/>
            <a:ext cx="371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Радиационная корроз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Прямоугольник 12"/>
          <p:cNvSpPr/>
          <p:nvPr/>
        </p:nvSpPr>
        <p:spPr>
          <a:xfrm>
            <a:off x="4663080" y="6172200"/>
            <a:ext cx="42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Коррозия под напряжение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Прямоугольник 3"/>
          <p:cNvSpPr/>
          <p:nvPr/>
        </p:nvSpPr>
        <p:spPr>
          <a:xfrm>
            <a:off x="325080" y="228600"/>
            <a:ext cx="381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Коррозионная кавитац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Прямоугольник 4"/>
          <p:cNvSpPr/>
          <p:nvPr/>
        </p:nvSpPr>
        <p:spPr>
          <a:xfrm>
            <a:off x="4887000" y="228600"/>
            <a:ext cx="295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Фреттинг-корроз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Прямоугольник 5"/>
          <p:cNvSpPr/>
          <p:nvPr/>
        </p:nvSpPr>
        <p:spPr>
          <a:xfrm>
            <a:off x="228600" y="68580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Коррозионно-механическо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разрушение металл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оугольник 6"/>
          <p:cNvSpPr/>
          <p:nvPr/>
        </p:nvSpPr>
        <p:spPr>
          <a:xfrm>
            <a:off x="323640" y="1219320"/>
            <a:ext cx="522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Коррозионная усталост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металл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"/>
          <p:cNvSpPr/>
          <p:nvPr/>
        </p:nvSpPr>
        <p:spPr>
          <a:xfrm>
            <a:off x="0" y="2135520"/>
            <a:ext cx="845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Классификация по характеру изменения поверхности металлических материал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рямоугольник 8"/>
          <p:cNvSpPr/>
          <p:nvPr/>
        </p:nvSpPr>
        <p:spPr>
          <a:xfrm>
            <a:off x="2679840" y="2895480"/>
            <a:ext cx="262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Сплошная корроз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2" descr=""/>
          <p:cNvPicPr/>
          <p:nvPr/>
        </p:nvPicPr>
        <p:blipFill>
          <a:blip r:embed="rId1"/>
          <a:stretch/>
        </p:blipFill>
        <p:spPr>
          <a:xfrm>
            <a:off x="1523880" y="3429000"/>
            <a:ext cx="5105520" cy="13716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3" descr=""/>
          <p:cNvPicPr/>
          <p:nvPr/>
        </p:nvPicPr>
        <p:blipFill>
          <a:blip r:embed="rId2"/>
          <a:stretch/>
        </p:blipFill>
        <p:spPr>
          <a:xfrm>
            <a:off x="838080" y="4876920"/>
            <a:ext cx="2514600" cy="1447560"/>
          </a:xfrm>
          <a:prstGeom prst="rect">
            <a:avLst/>
          </a:prstGeom>
          <a:ln w="0">
            <a:noFill/>
          </a:ln>
        </p:spPr>
      </p:pic>
      <p:sp>
        <p:nvSpPr>
          <p:cNvPr id="89" name="Прямоугольник 11"/>
          <p:cNvSpPr/>
          <p:nvPr/>
        </p:nvSpPr>
        <p:spPr>
          <a:xfrm>
            <a:off x="3659760" y="5257800"/>
            <a:ext cx="322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Избирательная корроз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"/>
          <p:cNvPicPr/>
          <p:nvPr/>
        </p:nvPicPr>
        <p:blipFill>
          <a:blip r:embed="rId1"/>
          <a:stretch/>
        </p:blipFill>
        <p:spPr>
          <a:xfrm>
            <a:off x="1676520" y="1600200"/>
            <a:ext cx="5715000" cy="16765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3" descr=""/>
          <p:cNvPicPr/>
          <p:nvPr/>
        </p:nvPicPr>
        <p:blipFill>
          <a:blip r:embed="rId2"/>
          <a:stretch/>
        </p:blipFill>
        <p:spPr>
          <a:xfrm>
            <a:off x="304920" y="4038480"/>
            <a:ext cx="2286000" cy="1676520"/>
          </a:xfrm>
          <a:prstGeom prst="rect">
            <a:avLst/>
          </a:prstGeom>
          <a:ln w="0">
            <a:noFill/>
          </a:ln>
        </p:spPr>
      </p:pic>
      <p:sp>
        <p:nvSpPr>
          <p:cNvPr id="92" name="Прямоугольник 5"/>
          <p:cNvSpPr/>
          <p:nvPr/>
        </p:nvSpPr>
        <p:spPr>
          <a:xfrm>
            <a:off x="2915640" y="838080"/>
            <a:ext cx="389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Местная (локальная коррозия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рямоугольник 6"/>
          <p:cNvSpPr/>
          <p:nvPr/>
        </p:nvSpPr>
        <p:spPr>
          <a:xfrm>
            <a:off x="389520" y="3429000"/>
            <a:ext cx="363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Подповерхностная корроз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5" descr=""/>
          <p:cNvPicPr/>
          <p:nvPr/>
        </p:nvPicPr>
        <p:blipFill>
          <a:blip r:embed="rId3"/>
          <a:stretch/>
        </p:blipFill>
        <p:spPr>
          <a:xfrm>
            <a:off x="4648320" y="4267080"/>
            <a:ext cx="2895480" cy="1324080"/>
          </a:xfrm>
          <a:prstGeom prst="rect">
            <a:avLst/>
          </a:prstGeom>
          <a:ln w="0">
            <a:noFill/>
          </a:ln>
        </p:spPr>
      </p:pic>
      <p:sp>
        <p:nvSpPr>
          <p:cNvPr id="95" name="Прямоугольник 9"/>
          <p:cNvSpPr/>
          <p:nvPr/>
        </p:nvSpPr>
        <p:spPr>
          <a:xfrm>
            <a:off x="4356360" y="3429000"/>
            <a:ext cx="374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Межкристаллитная корроз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рямоугольник 3"/>
          <p:cNvSpPr/>
          <p:nvPr/>
        </p:nvSpPr>
        <p:spPr>
          <a:xfrm>
            <a:off x="304920" y="4572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имическая коррозия металлических материалов – это самопроизвольный окислительно-восстановительный процесс разрушения металла в окружающей среде без возникновения в системе электрического ток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рямоугольник 4"/>
          <p:cNvSpPr/>
          <p:nvPr/>
        </p:nvSpPr>
        <p:spPr>
          <a:xfrm>
            <a:off x="304920" y="2057400"/>
            <a:ext cx="838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ксидные или солевые соединения, образующиеся в результате коррозионных процессов на металлах, называются поверхностными или защитными пленкам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оугольник 5"/>
          <p:cNvSpPr/>
          <p:nvPr/>
        </p:nvSpPr>
        <p:spPr>
          <a:xfrm>
            <a:off x="152280" y="3581280"/>
            <a:ext cx="861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Оксидные пленки на поверхности желез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дукты коррозии железа называются ржавчин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" name="Object 2"/>
              <p:cNvSpPr txBox="1"/>
              <p:nvPr/>
            </p:nvSpPr>
            <p:spPr>
              <a:xfrm>
                <a:off x="1066680" y="4419720"/>
                <a:ext cx="5562720" cy="15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3Fe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2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Fe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</m:e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Fe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e</m:t>
                        </m:r>
                        <m:r>
                          <m:t xml:space="preserve">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Fe</m:t>
                            </m:r>
                          </m:e>
                          <m:sup>
                            <m:r>
                              <m:t xml:space="preserve">2</m:t>
                            </m:r>
                            <m:r>
                              <m:t xml:space="preserve">+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процесс окисления</m:t>
                        </m:r>
                      </m:e>
                      <m:e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e</m:t>
                        </m:r>
                        <m:r>
                          <m:t xml:space="preserve">→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O</m:t>
                            </m:r>
                          </m:e>
                          <m:sup>
                            <m:r>
                              <m:t xml:space="preserve">2</m:t>
                            </m:r>
                            <m:r>
                              <m:t xml:space="preserve">−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 процесс восстановления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Group 1"/>
          <p:cNvGrpSpPr/>
          <p:nvPr/>
        </p:nvGrpSpPr>
        <p:grpSpPr>
          <a:xfrm>
            <a:off x="685800" y="380880"/>
            <a:ext cx="2819520" cy="3581640"/>
            <a:chOff x="685800" y="380880"/>
            <a:chExt cx="2819520" cy="3581640"/>
          </a:xfrm>
        </p:grpSpPr>
        <p:sp>
          <p:nvSpPr>
            <p:cNvPr id="102" name="AutoShape 15"/>
            <p:cNvSpPr/>
            <p:nvPr/>
          </p:nvSpPr>
          <p:spPr>
            <a:xfrm>
              <a:off x="685800" y="380880"/>
              <a:ext cx="2819520" cy="358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Rectangle 14"/>
            <p:cNvSpPr/>
            <p:nvPr/>
          </p:nvSpPr>
          <p:spPr>
            <a:xfrm>
              <a:off x="685800" y="2583000"/>
              <a:ext cx="2819520" cy="1258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4" name="Object 13"/>
                <p:cNvSpPr txBox="1"/>
                <p:nvPr/>
              </p:nvSpPr>
              <p:spPr>
                <a:xfrm>
                  <a:off x="2330280" y="380880"/>
                  <a:ext cx="391320" cy="524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O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5" name="Object 12"/>
                <p:cNvSpPr txBox="1"/>
                <p:nvPr/>
              </p:nvSpPr>
              <p:spPr>
                <a:xfrm>
                  <a:off x="1155240" y="1953720"/>
                  <a:ext cx="522360" cy="524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O</m:t>
                          </m:r>
                        </m:e>
                        <m:sup>
                          <m:r>
                            <m:t xml:space="preserve">2</m:t>
                          </m:r>
                          <m:r>
                            <m:t xml:space="preserve">−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6" name="Object 11"/>
                <p:cNvSpPr txBox="1"/>
                <p:nvPr/>
              </p:nvSpPr>
              <p:spPr>
                <a:xfrm>
                  <a:off x="1625400" y="1953720"/>
                  <a:ext cx="521280" cy="524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O</m:t>
                          </m:r>
                        </m:e>
                        <m:sup>
                          <m:r>
                            <m:t xml:space="preserve">2</m:t>
                          </m:r>
                          <m:r>
                            <m:t xml:space="preserve">−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7" name="Object 10"/>
                <p:cNvSpPr txBox="1"/>
                <p:nvPr/>
              </p:nvSpPr>
              <p:spPr>
                <a:xfrm>
                  <a:off x="2565360" y="1953720"/>
                  <a:ext cx="520200" cy="524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O</m:t>
                          </m:r>
                        </m:e>
                        <m:sup>
                          <m:r>
                            <m:t xml:space="preserve">2</m:t>
                          </m:r>
                          <m:r>
                            <m:t xml:space="preserve">−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108" name="Line 9"/>
            <p:cNvSpPr/>
            <p:nvPr/>
          </p:nvSpPr>
          <p:spPr>
            <a:xfrm flipH="1">
              <a:off x="1390320" y="695520"/>
              <a:ext cx="939600" cy="1048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Line 8"/>
            <p:cNvSpPr/>
            <p:nvPr/>
          </p:nvSpPr>
          <p:spPr>
            <a:xfrm flipH="1">
              <a:off x="2094840" y="1009800"/>
              <a:ext cx="312480" cy="62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7"/>
            <p:cNvSpPr/>
            <p:nvPr/>
          </p:nvSpPr>
          <p:spPr>
            <a:xfrm>
              <a:off x="2565360" y="1009800"/>
              <a:ext cx="156240" cy="62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Text Box 6"/>
            <p:cNvSpPr/>
            <p:nvPr/>
          </p:nvSpPr>
          <p:spPr>
            <a:xfrm>
              <a:off x="1859760" y="3212280"/>
              <a:ext cx="939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F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2" name="Object 5"/>
                <p:cNvSpPr txBox="1"/>
                <p:nvPr/>
              </p:nvSpPr>
              <p:spPr>
                <a:xfrm>
                  <a:off x="919800" y="2583000"/>
                  <a:ext cx="626760" cy="524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Fe</m:t>
                          </m:r>
                        </m:e>
                        <m:sup>
                          <m:r>
                            <m:t xml:space="preserve">2</m:t>
                          </m:r>
                          <m:r>
                            <m:t xml:space="preserve">+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3" name="Object 4"/>
                <p:cNvSpPr txBox="1"/>
                <p:nvPr/>
              </p:nvSpPr>
              <p:spPr>
                <a:xfrm>
                  <a:off x="2799360" y="2583000"/>
                  <a:ext cx="625680" cy="524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Fe</m:t>
                          </m:r>
                        </m:e>
                        <m:sup>
                          <m:r>
                            <m:t xml:space="preserve">2</m:t>
                          </m:r>
                          <m:r>
                            <m:t xml:space="preserve">+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114" name="Line 3"/>
            <p:cNvSpPr/>
            <p:nvPr/>
          </p:nvSpPr>
          <p:spPr>
            <a:xfrm flipH="1" flipV="1">
              <a:off x="1389960" y="2897280"/>
              <a:ext cx="469080" cy="419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Line 2"/>
            <p:cNvSpPr/>
            <p:nvPr/>
          </p:nvSpPr>
          <p:spPr>
            <a:xfrm flipV="1">
              <a:off x="2330280" y="3212280"/>
              <a:ext cx="471240" cy="209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Rectangle 18"/>
          <p:cNvSpPr/>
          <p:nvPr/>
        </p:nvSpPr>
        <p:spPr>
          <a:xfrm>
            <a:off x="3809880" y="2863800"/>
            <a:ext cx="533412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eO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e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4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e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~100 : 10 : 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19"/>
          <p:cNvSpPr/>
          <p:nvPr/>
        </p:nvSpPr>
        <p:spPr>
          <a:xfrm>
            <a:off x="228600" y="4124520"/>
            <a:ext cx="8229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чина коррозии –  термодинамическая неустойчивость системы, состоящей из металла и компонентов коррозионно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ред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 Мерой термодинамической неустойчивости является свободная энергия Гиббса, освобождаемая при взаимодействии металла с этими компонентами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1"/>
          <p:cNvSpPr/>
          <p:nvPr/>
        </p:nvSpPr>
        <p:spPr>
          <a:xfrm>
            <a:off x="304920" y="617040"/>
            <a:ext cx="83055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Влияние температуры на скорость коррози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С увеличением температуры  скорость коррозии возрастает. Колебания температуры при нагреве металла, попеременные нагрев и охлаждение увеличивают скорость окисления металл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В оксидной пленке возникают термические напряжения, образуются трещины и она начинает отслаиваться от металл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2"/>
          <p:cNvSpPr/>
          <p:nvPr/>
        </p:nvSpPr>
        <p:spPr>
          <a:xfrm>
            <a:off x="304920" y="2828160"/>
            <a:ext cx="83055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Влияние давления на скорость коррози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Если парциальное давление окислителя ниже давления диссоциации образующегося соединения, то термодинамическое окисление металла прекращаетс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Если окисление металла лимитируется химической реакцией, то скорость коррозии увеличивается пропорционально корню квадратному от величины давления кислорода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Прямоугольник 5"/>
          <p:cNvSpPr/>
          <p:nvPr/>
        </p:nvSpPr>
        <p:spPr>
          <a:xfrm>
            <a:off x="228600" y="5257800"/>
            <a:ext cx="8305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Влияние состава газа на скорость коррози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грязнение воздуха углекислым газом, диоксидом серы, парами воды вызывает повышение скорости газовой корроз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1"/>
          <p:cNvSpPr/>
          <p:nvPr/>
        </p:nvSpPr>
        <p:spPr>
          <a:xfrm>
            <a:off x="380880" y="210960"/>
            <a:ext cx="8382240" cy="34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Электрохимическая коррозия возникает в присутствии электролита вследствие перехода электронов от одних участков металла к другим. При этом протекают два сопряженных процесса: переход металла в раствор (окислительный или анодный процесс) и переход этих ионов из раствора с выделением их на поверхности металл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 восстановительный или катодный процесс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Ме +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H</a:t>
            </a:r>
            <a:r>
              <a:rPr b="0" i="1" lang="en-US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↔ Me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n+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∙ mH</a:t>
            </a:r>
            <a:r>
              <a:rPr b="0" i="1" lang="en-US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 + 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2"/>
          <p:cNvSpPr/>
          <p:nvPr/>
        </p:nvSpPr>
        <p:spPr>
          <a:xfrm>
            <a:off x="228600" y="3970080"/>
            <a:ext cx="8686800" cy="192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Механизм электрохимической коррозии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сновывается на концепции локальных элементов, т.е. особых гальванических пар микроскопических или же макроскопических, совокупная деятельность которых приводит к коррозионному разрушению металл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1"/>
          <p:cNvSpPr/>
          <p:nvPr/>
        </p:nvSpPr>
        <p:spPr>
          <a:xfrm>
            <a:off x="0" y="312480"/>
            <a:ext cx="8991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Макроскопические гальванические пары возникают при контакте двух металлов различной активности с электролитом. Электроны переходят от более активного металла к менее активному, и более активный металл разрушае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2"/>
          <p:cNvSpPr/>
          <p:nvPr/>
        </p:nvSpPr>
        <p:spPr>
          <a:xfrm>
            <a:off x="163800" y="2330640"/>
            <a:ext cx="453636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Е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Fe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= – 0,44 В, Е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Cu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= +0,337 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3" descr=""/>
          <p:cNvPicPr/>
          <p:nvPr/>
        </p:nvPicPr>
        <p:blipFill>
          <a:blip r:embed="rId1"/>
          <a:stretch/>
        </p:blipFill>
        <p:spPr>
          <a:xfrm>
            <a:off x="5181480" y="2743200"/>
            <a:ext cx="3505320" cy="327672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4"/>
          <p:cNvSpPr/>
          <p:nvPr/>
        </p:nvSpPr>
        <p:spPr>
          <a:xfrm>
            <a:off x="304920" y="289656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-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e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│Н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u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(+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5"/>
          <p:cNvSpPr/>
          <p:nvPr/>
        </p:nvSpPr>
        <p:spPr>
          <a:xfrm>
            <a:off x="457200" y="3528720"/>
            <a:ext cx="4267080" cy="315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Анод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e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– 2 е →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e</a:t>
            </a:r>
            <a:r>
              <a:rPr b="0" i="1" lang="ru-RU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Катод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: 2Н</a:t>
            </a:r>
            <a:r>
              <a:rPr b="0" i="1" lang="ru-RU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+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2е → Н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или в молекулярной форм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e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2 НС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→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eCl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↑ Н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1"/>
          <p:cNvSpPr/>
          <p:nvPr/>
        </p:nvSpPr>
        <p:spPr>
          <a:xfrm>
            <a:off x="228600" y="610920"/>
            <a:ext cx="8686800" cy="541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одородная деполяризац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характерна для растворов с высокой активностью ионов водорода, т.е. для растворов кислот. Акцепторами электронов являются ионы водород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 рН&lt; 7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на катоде: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Н</a:t>
            </a:r>
            <a:r>
              <a:rPr b="0" i="1" lang="ru-RU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+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2 е → Н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и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Н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</a:t>
            </a:r>
            <a:r>
              <a:rPr b="0" i="1" lang="ru-RU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+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е → 1/2 Н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Н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 рН ≥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акцепторами электронов являются молекулы воды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на катоде: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Н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 +2 е → Н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2 ОН</a:t>
            </a:r>
            <a:r>
              <a:rPr b="0" i="1" lang="ru-RU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опрос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 Коррозия металл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Химическая корроз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 Электрохимическая корроз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. Методы защиты от корроз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. Коррозия неметаллических строительных материал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6. Особенности коррозии стальной армату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1"/>
          <p:cNvSpPr/>
          <p:nvPr/>
        </p:nvSpPr>
        <p:spPr>
          <a:xfrm>
            <a:off x="838080" y="502560"/>
            <a:ext cx="7925040" cy="627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Кислородная деполяризац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характерна для металлов, которые находятся в атмосфере и соприкасаются с водой и растворами солей. Акцептором электронов в этих случаях является растворенный в электролите кислоро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 растворах при рН&lt; 7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на катоде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4 Н</a:t>
            </a:r>
            <a:r>
              <a:rPr b="0" i="1" lang="ru-RU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+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4е → 2Н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 рН ≥ 7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на катоде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Н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 +  4е →4 ОН</a:t>
            </a:r>
            <a:r>
              <a:rPr b="0" i="1" lang="ru-RU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Анод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:    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e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– 2 е →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e</a:t>
            </a:r>
            <a:r>
              <a:rPr b="0" i="1" lang="ru-RU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Катод:  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Н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 +  4е →4 ОН</a:t>
            </a:r>
            <a:r>
              <a:rPr b="0" i="1" lang="ru-RU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e</a:t>
            </a:r>
            <a:r>
              <a:rPr b="0" i="1" lang="ru-RU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+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+2ОН</a:t>
            </a:r>
            <a:r>
              <a:rPr b="0" i="1" lang="ru-RU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-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→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e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ОН)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4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e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ОН)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О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2Н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→4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e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ОН)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1"/>
          <p:cNvSpPr/>
          <p:nvPr/>
        </p:nvSpPr>
        <p:spPr>
          <a:xfrm>
            <a:off x="304920" y="475560"/>
            <a:ext cx="83055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638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Независимо от условий протекания процессов, процесс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анодного окисления включает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ледующие стади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98360" algn="just">
              <a:buClr>
                <a:srgbClr val="000000"/>
              </a:buClr>
              <a:buFont typeface="Arial"/>
              <a:buChar char="•"/>
              <a:tabLst>
                <a:tab algn="l" pos="638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ереход электронов с анодного участка на катодный; роль анода всегда выполняет более активный металл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98360" algn="just">
              <a:buClr>
                <a:srgbClr val="000000"/>
              </a:buClr>
              <a:buFont typeface="Arial"/>
              <a:buChar char="•"/>
              <a:tabLst>
                <a:tab algn="l" pos="638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еремещение ионов в электролитических проводящих средах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638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638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 процессе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катодного восстановления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– восстанавливаются атомы, ионы, молекулы, способные принимать электро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Прямоугольник 4"/>
          <p:cNvSpPr/>
          <p:nvPr/>
        </p:nvSpPr>
        <p:spPr>
          <a:xfrm>
            <a:off x="228600" y="4952880"/>
            <a:ext cx="853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икрогальванопары возникают при соприкосновении металла с электролитом (электролитом может быть влага, адсорбируемая из воздуха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1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Group 1"/>
          <p:cNvGrpSpPr/>
          <p:nvPr/>
        </p:nvGrpSpPr>
        <p:grpSpPr>
          <a:xfrm>
            <a:off x="2743200" y="2286000"/>
            <a:ext cx="3504960" cy="2971800"/>
            <a:chOff x="2743200" y="2286000"/>
            <a:chExt cx="3504960" cy="2971800"/>
          </a:xfrm>
        </p:grpSpPr>
        <p:sp>
          <p:nvSpPr>
            <p:cNvPr id="134" name="AutoShape 18"/>
            <p:cNvSpPr/>
            <p:nvPr/>
          </p:nvSpPr>
          <p:spPr>
            <a:xfrm>
              <a:off x="2895480" y="2286000"/>
              <a:ext cx="3352680" cy="297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17"/>
            <p:cNvSpPr/>
            <p:nvPr/>
          </p:nvSpPr>
          <p:spPr>
            <a:xfrm>
              <a:off x="3072240" y="4465440"/>
              <a:ext cx="2999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16"/>
            <p:cNvSpPr/>
            <p:nvPr/>
          </p:nvSpPr>
          <p:spPr>
            <a:xfrm>
              <a:off x="3424680" y="3474720"/>
              <a:ext cx="1941480" cy="1386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Text Box 15"/>
            <p:cNvSpPr/>
            <p:nvPr/>
          </p:nvSpPr>
          <p:spPr>
            <a:xfrm>
              <a:off x="2743200" y="4465440"/>
              <a:ext cx="2975400" cy="7923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катод  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анод    катод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        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металл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Line 14"/>
            <p:cNvSpPr/>
            <p:nvPr/>
          </p:nvSpPr>
          <p:spPr>
            <a:xfrm>
              <a:off x="3424680" y="4465440"/>
              <a:ext cx="2293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Line 13"/>
            <p:cNvSpPr/>
            <p:nvPr/>
          </p:nvSpPr>
          <p:spPr>
            <a:xfrm>
              <a:off x="3249000" y="3672720"/>
              <a:ext cx="352080" cy="59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Line 12"/>
            <p:cNvSpPr/>
            <p:nvPr/>
          </p:nvSpPr>
          <p:spPr>
            <a:xfrm>
              <a:off x="3424680" y="3474720"/>
              <a:ext cx="353160" cy="7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11"/>
            <p:cNvSpPr/>
            <p:nvPr/>
          </p:nvSpPr>
          <p:spPr>
            <a:xfrm flipH="1">
              <a:off x="5189400" y="3672720"/>
              <a:ext cx="176400" cy="59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10"/>
            <p:cNvSpPr/>
            <p:nvPr/>
          </p:nvSpPr>
          <p:spPr>
            <a:xfrm flipH="1">
              <a:off x="5012640" y="3276720"/>
              <a:ext cx="176400" cy="9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9"/>
            <p:cNvSpPr/>
            <p:nvPr/>
          </p:nvSpPr>
          <p:spPr>
            <a:xfrm>
              <a:off x="4483800" y="3276720"/>
              <a:ext cx="720" cy="7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8"/>
            <p:cNvSpPr/>
            <p:nvPr/>
          </p:nvSpPr>
          <p:spPr>
            <a:xfrm>
              <a:off x="4660200" y="3276720"/>
              <a:ext cx="0" cy="7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7"/>
            <p:cNvSpPr/>
            <p:nvPr/>
          </p:nvSpPr>
          <p:spPr>
            <a:xfrm>
              <a:off x="4307040" y="327672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6"/>
            <p:cNvSpPr/>
            <p:nvPr/>
          </p:nvSpPr>
          <p:spPr>
            <a:xfrm>
              <a:off x="4307040" y="3276720"/>
              <a:ext cx="0" cy="7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Text Box 5"/>
            <p:cNvSpPr/>
            <p:nvPr/>
          </p:nvSpPr>
          <p:spPr>
            <a:xfrm>
              <a:off x="4952880" y="3124440"/>
              <a:ext cx="942120" cy="2692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О</a:t>
              </a:r>
              <a:r>
                <a:rPr b="0" lang="en-US" sz="2000" spc="-1" strike="noStrike" baseline="-30000">
                  <a:solidFill>
                    <a:srgbClr val="000000"/>
                  </a:solidFill>
                  <a:latin typeface="Arial"/>
                  <a:ea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Text Box 4"/>
            <p:cNvSpPr/>
            <p:nvPr/>
          </p:nvSpPr>
          <p:spPr>
            <a:xfrm>
              <a:off x="4130280" y="2484000"/>
              <a:ext cx="882360" cy="6746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О</a:t>
              </a:r>
              <a:r>
                <a:rPr b="0" lang="en-US" sz="2000" spc="-1" strike="noStrike" baseline="-30000">
                  <a:solidFill>
                    <a:srgbClr val="000000"/>
                  </a:solidFill>
                  <a:latin typeface="Arial"/>
                  <a:ea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Text Box 3"/>
            <p:cNvSpPr/>
            <p:nvPr/>
          </p:nvSpPr>
          <p:spPr>
            <a:xfrm>
              <a:off x="2895480" y="2880360"/>
              <a:ext cx="705600" cy="7117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О</a:t>
              </a:r>
              <a:r>
                <a:rPr b="0" lang="en-US" sz="2000" spc="-1" strike="noStrike" baseline="-30000">
                  <a:solidFill>
                    <a:srgbClr val="000000"/>
                  </a:solidFill>
                  <a:latin typeface="Arial"/>
                  <a:ea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Text Box 2"/>
            <p:cNvSpPr/>
            <p:nvPr/>
          </p:nvSpPr>
          <p:spPr>
            <a:xfrm>
              <a:off x="4660200" y="2286000"/>
              <a:ext cx="1587960" cy="7117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Капля вод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Rectangle 25"/>
          <p:cNvSpPr/>
          <p:nvPr/>
        </p:nvSpPr>
        <p:spPr>
          <a:xfrm>
            <a:off x="380880" y="698760"/>
            <a:ext cx="8229600" cy="9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Н</a:t>
            </a:r>
            <a:r>
              <a:rPr b="0" i="1" lang="ru-RU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+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2е → Н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(в кислой среде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2H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 + 4е → 40Н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(в нейтральной  среде)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2" name=""/>
          <p:cNvGraphicFramePr/>
          <p:nvPr/>
        </p:nvGraphicFramePr>
        <p:xfrm>
          <a:off x="990720" y="2438280"/>
          <a:ext cx="7848360" cy="4326120"/>
        </p:xfrm>
        <a:graphic>
          <a:graphicData uri="http://schemas.openxmlformats.org/drawingml/2006/table">
            <a:tbl>
              <a:tblPr/>
              <a:tblGrid>
                <a:gridCol w="3398760"/>
                <a:gridCol w="3448080"/>
                <a:gridCol w="1001520"/>
              </a:tblGrid>
              <a:tr h="669960"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уппа стойкос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орость коррозии металла, </a:t>
                      </a: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м/год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ал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вершенно стойк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нее 0,0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200"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сьма стойк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ыше 0,001 до 0,00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ыше 0,005 до 0,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996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ойк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ыше 0,01 до 0,0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ыше 0,05 до 0,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9960"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ниженно-стойк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ыше 0,1 до 0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ыше 0,5 до 1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9960"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лостойк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ыше 1,0 до 5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ыше 5,0 до 10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стойк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ыше 10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3" name="Rectangle 1"/>
          <p:cNvSpPr/>
          <p:nvPr/>
        </p:nvSpPr>
        <p:spPr>
          <a:xfrm>
            <a:off x="152280" y="692280"/>
            <a:ext cx="87631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Скорость электрохимической коррозии представляет суммарную силу тока всех коррозионных пар, функционирующих на поверхности металл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Для практических целей применяют условную десятибалльную шкалу коррозионной стойк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2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Group 3"/>
          <p:cNvGrpSpPr/>
          <p:nvPr/>
        </p:nvGrpSpPr>
        <p:grpSpPr>
          <a:xfrm>
            <a:off x="2362320" y="990720"/>
            <a:ext cx="5790600" cy="3580920"/>
            <a:chOff x="2362320" y="990720"/>
            <a:chExt cx="5790600" cy="3580920"/>
          </a:xfrm>
        </p:grpSpPr>
        <p:sp>
          <p:nvSpPr>
            <p:cNvPr id="156" name="AutoShape 21"/>
            <p:cNvSpPr/>
            <p:nvPr/>
          </p:nvSpPr>
          <p:spPr>
            <a:xfrm>
              <a:off x="2445840" y="1066680"/>
              <a:ext cx="5401080" cy="350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Line 20"/>
            <p:cNvSpPr/>
            <p:nvPr/>
          </p:nvSpPr>
          <p:spPr>
            <a:xfrm>
              <a:off x="3205440" y="1165680"/>
              <a:ext cx="0" cy="262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Line 19"/>
            <p:cNvSpPr/>
            <p:nvPr/>
          </p:nvSpPr>
          <p:spPr>
            <a:xfrm>
              <a:off x="3205440" y="3794760"/>
              <a:ext cx="3038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Rectangle 18"/>
            <p:cNvSpPr/>
            <p:nvPr/>
          </p:nvSpPr>
          <p:spPr>
            <a:xfrm>
              <a:off x="3205440" y="3268800"/>
              <a:ext cx="3038400" cy="525600"/>
            </a:xfrm>
            <a:prstGeom prst="rect">
              <a:avLst/>
            </a:prstGeom>
            <a:solidFill>
              <a:srgbClr val="c0c0c0">
                <a:alpha val="6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Rectangle 17"/>
            <p:cNvSpPr/>
            <p:nvPr/>
          </p:nvSpPr>
          <p:spPr>
            <a:xfrm>
              <a:off x="3205440" y="1866600"/>
              <a:ext cx="2869560" cy="350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16"/>
            <p:cNvSpPr/>
            <p:nvPr/>
          </p:nvSpPr>
          <p:spPr>
            <a:xfrm>
              <a:off x="3205440" y="1341000"/>
              <a:ext cx="270108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Text Box 15"/>
            <p:cNvSpPr/>
            <p:nvPr/>
          </p:nvSpPr>
          <p:spPr>
            <a:xfrm>
              <a:off x="4218840" y="2392560"/>
              <a:ext cx="3094920" cy="7009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66240" rIns="66240" tIns="33120" bIns="33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Пассивное состоян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Text Box 14"/>
            <p:cNvSpPr/>
            <p:nvPr/>
          </p:nvSpPr>
          <p:spPr>
            <a:xfrm>
              <a:off x="2433240" y="990720"/>
              <a:ext cx="577800" cy="5256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66240" rIns="66240" tIns="33120" bIns="33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Text Box 13"/>
            <p:cNvSpPr/>
            <p:nvPr/>
          </p:nvSpPr>
          <p:spPr>
            <a:xfrm>
              <a:off x="2362320" y="1866600"/>
              <a:ext cx="745920" cy="5256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66240" rIns="66240" tIns="33120" bIns="33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Е</a:t>
              </a:r>
              <a:r>
                <a:rPr b="0" lang="en-US" sz="2000" spc="-1" strike="noStrike" baseline="-30000">
                  <a:solidFill>
                    <a:srgbClr val="000000"/>
                  </a:solidFill>
                  <a:latin typeface="Arial"/>
                  <a:ea typeface="Times New Roman"/>
                </a:rPr>
                <a:t>пас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Arc 12"/>
            <p:cNvSpPr/>
            <p:nvPr/>
          </p:nvSpPr>
          <p:spPr>
            <a:xfrm flipH="1" flipV="1">
              <a:off x="4049640" y="3268080"/>
              <a:ext cx="1350000" cy="3502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Line 11"/>
            <p:cNvSpPr/>
            <p:nvPr/>
          </p:nvSpPr>
          <p:spPr>
            <a:xfrm flipV="1">
              <a:off x="4049640" y="2041920"/>
              <a:ext cx="168840" cy="122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Line 10"/>
            <p:cNvSpPr/>
            <p:nvPr/>
          </p:nvSpPr>
          <p:spPr>
            <a:xfrm flipV="1">
              <a:off x="4218840" y="1866240"/>
              <a:ext cx="1012680" cy="175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9"/>
            <p:cNvSpPr/>
            <p:nvPr/>
          </p:nvSpPr>
          <p:spPr>
            <a:xfrm flipH="1" flipV="1">
              <a:off x="4049640" y="1515960"/>
              <a:ext cx="843840" cy="175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Arc 8"/>
            <p:cNvSpPr/>
            <p:nvPr/>
          </p:nvSpPr>
          <p:spPr>
            <a:xfrm>
              <a:off x="4627800" y="1691640"/>
              <a:ext cx="669240" cy="13831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Text Box 7"/>
            <p:cNvSpPr/>
            <p:nvPr/>
          </p:nvSpPr>
          <p:spPr>
            <a:xfrm>
              <a:off x="5400000" y="1341000"/>
              <a:ext cx="2752920" cy="5256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66240" rIns="66240" tIns="33120" bIns="33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активное состоян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Text Box 6"/>
            <p:cNvSpPr/>
            <p:nvPr/>
          </p:nvSpPr>
          <p:spPr>
            <a:xfrm>
              <a:off x="6248160" y="1676160"/>
              <a:ext cx="1877760" cy="6098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66240" rIns="66240" tIns="33120" bIns="33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переходная област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Text Box 5"/>
            <p:cNvSpPr/>
            <p:nvPr/>
          </p:nvSpPr>
          <p:spPr>
            <a:xfrm>
              <a:off x="5977800" y="3268800"/>
              <a:ext cx="2007000" cy="7009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66240" rIns="66240" tIns="33120" bIns="33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Нарушение пассивност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Text Box 4"/>
            <p:cNvSpPr/>
            <p:nvPr/>
          </p:nvSpPr>
          <p:spPr>
            <a:xfrm>
              <a:off x="3106800" y="3970800"/>
              <a:ext cx="4401360" cy="4827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66240" rIns="66240" tIns="33120" bIns="33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Логарифм скорости растворени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" name="Rectangle 30"/>
          <p:cNvSpPr/>
          <p:nvPr/>
        </p:nvSpPr>
        <p:spPr>
          <a:xfrm>
            <a:off x="304920" y="5338440"/>
            <a:ext cx="8305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корость процесса растворения металла в области пассивации становится очень малой и может сохраняться сколь угодно долг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1"/>
          <p:cNvSpPr/>
          <p:nvPr/>
        </p:nvSpPr>
        <p:spPr>
          <a:xfrm>
            <a:off x="304920" y="856800"/>
            <a:ext cx="84582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638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Методы защиты металлических материалов от корроз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638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81080" algn="just">
              <a:buClr>
                <a:srgbClr val="000000"/>
              </a:buClr>
              <a:buFont typeface="Arial"/>
              <a:buChar char="•"/>
              <a:tabLst>
                <a:tab algn="l" pos="638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оздание коррозионностойких материал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81080" algn="just">
              <a:buClr>
                <a:srgbClr val="000000"/>
              </a:buClr>
              <a:buFont typeface="Arial"/>
              <a:buChar char="•"/>
              <a:tabLst>
                <a:tab algn="l" pos="638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81080" algn="just">
              <a:buClr>
                <a:srgbClr val="000000"/>
              </a:buClr>
              <a:buFont typeface="Arial"/>
              <a:buChar char="•"/>
              <a:tabLst>
                <a:tab algn="l" pos="638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использование защитных поверхностных покрытий металл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81080" algn="just">
              <a:buClr>
                <a:srgbClr val="000000"/>
              </a:buClr>
              <a:buFont typeface="Arial"/>
              <a:buChar char="•"/>
              <a:tabLst>
                <a:tab algn="l" pos="638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81080" algn="just">
              <a:buClr>
                <a:srgbClr val="000000"/>
              </a:buClr>
              <a:buFont typeface="Arial"/>
              <a:buChar char="•"/>
              <a:tabLst>
                <a:tab algn="l" pos="638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изменение состава агрессивной сред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81080" algn="just">
              <a:buClr>
                <a:srgbClr val="000000"/>
              </a:buClr>
              <a:buFont typeface="Arial"/>
              <a:buChar char="•"/>
              <a:tabLst>
                <a:tab algn="l" pos="638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81080" algn="just">
              <a:buClr>
                <a:srgbClr val="000000"/>
              </a:buClr>
              <a:buFont typeface="Arial"/>
              <a:buChar char="•"/>
              <a:tabLst>
                <a:tab algn="l" pos="638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электрохимические мето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80880" y="491760"/>
            <a:ext cx="8458200" cy="53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Хро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– устойчив к питтинговой коррозии, обладает высокой пассивацией в средах различной кислотности, что связано с образование оксида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r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 Основной недостаток хромистых сталей – склонность к хрупкому разрушен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Никель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– образует с железом ряд твердых растворов. Пассивное состояние связано с образованием оксида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iO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и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гидроксида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i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(ОН)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 Введение никеля повышает механические свойства ста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Мед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, введенная в стали повышает их стойкость в минеральных кислот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Марганец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овышает устойчивость к высокотемпературному окислению в средах, содержащих сернистые соедин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1"/>
          <p:cNvSpPr/>
          <p:nvPr/>
        </p:nvSpPr>
        <p:spPr>
          <a:xfrm>
            <a:off x="228600" y="196920"/>
            <a:ext cx="525780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4Al + 2H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 + 3O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→ 4AlO(O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2"/>
          <p:cNvSpPr/>
          <p:nvPr/>
        </p:nvSpPr>
        <p:spPr>
          <a:xfrm>
            <a:off x="533520" y="577800"/>
            <a:ext cx="441936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l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 + 4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Times New Roman CYR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→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lO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(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H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) + 3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Times New Roman CYR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3"/>
          <p:cNvSpPr/>
          <p:nvPr/>
        </p:nvSpPr>
        <p:spPr>
          <a:xfrm>
            <a:off x="304920" y="1209960"/>
            <a:ext cx="8305560" cy="3217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 стадия – растворение в щелочи амфотерной оксидной пленк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А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</a:t>
            </a:r>
            <a:r>
              <a:rPr b="0" i="1" lang="en-US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</a:t>
            </a:r>
            <a:r>
              <a:rPr b="0" i="1" lang="en-US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+ 2NaOH+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ЗН</a:t>
            </a:r>
            <a:r>
              <a:rPr b="0" i="1" lang="en-US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  → 2Na[Al(OH)</a:t>
            </a:r>
            <a:r>
              <a:rPr b="0" i="1" lang="en-US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4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 стадия – взаимодействие металла с водо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l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 + 6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Times New Roman CYR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</a:t>
            </a:r>
            <a:r>
              <a:rPr b="0" i="1" lang="pt-BR" sz="24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→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l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(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H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)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Times New Roman CYR"/>
                <a:ea typeface="Times New Roman"/>
              </a:rPr>
              <a:t>3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 + 3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Times New Roman CYR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3 стадия – растворение образовавшейся гидроксидной пленки в растворе щелоч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l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(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)</a:t>
            </a:r>
            <a:r>
              <a:rPr b="0" i="1" lang="en-US" sz="2400" spc="-1" strike="noStrike" baseline="-30000">
                <a:solidFill>
                  <a:srgbClr val="000000"/>
                </a:solidFill>
                <a:latin typeface="Times New Roman CYR"/>
                <a:ea typeface="Times New Roman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 +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NaOH → 2Na[Al(OH)</a:t>
            </a:r>
            <a:r>
              <a:rPr b="0" i="1" lang="en-US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4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4"/>
          <p:cNvSpPr/>
          <p:nvPr/>
        </p:nvSpPr>
        <p:spPr>
          <a:xfrm>
            <a:off x="228600" y="457848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К защитным поверхностным покрытиям относятся неорганические защитные пленки (фосфатные, оксидные), гальванопокрытия, органические изолирующие покрытия (лакокрасочные, эпоксидные, полиуретановые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Прямоугольник 3"/>
          <p:cNvSpPr/>
          <p:nvPr/>
        </p:nvSpPr>
        <p:spPr>
          <a:xfrm>
            <a:off x="152280" y="228600"/>
            <a:ext cx="8991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текторная защит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применяется в тех случаях, когда защищаемая конструкция находится в среде электролит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2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Group 1"/>
          <p:cNvGrpSpPr/>
          <p:nvPr/>
        </p:nvGrpSpPr>
        <p:grpSpPr>
          <a:xfrm>
            <a:off x="1219320" y="1026360"/>
            <a:ext cx="5486400" cy="1779120"/>
            <a:chOff x="1219320" y="1026360"/>
            <a:chExt cx="5486400" cy="1779120"/>
          </a:xfrm>
        </p:grpSpPr>
        <p:sp>
          <p:nvSpPr>
            <p:cNvPr id="184" name="AutoShape 21"/>
            <p:cNvSpPr/>
            <p:nvPr/>
          </p:nvSpPr>
          <p:spPr>
            <a:xfrm>
              <a:off x="1219320" y="1295280"/>
              <a:ext cx="5486400" cy="148608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AutoShape 20"/>
            <p:cNvSpPr/>
            <p:nvPr/>
          </p:nvSpPr>
          <p:spPr>
            <a:xfrm rot="13803600">
              <a:off x="2658240" y="725040"/>
              <a:ext cx="326880" cy="2381040"/>
            </a:xfrm>
            <a:prstGeom prst="can">
              <a:avLst>
                <a:gd name="adj" fmla="val 1543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Rectangle 19"/>
            <p:cNvSpPr/>
            <p:nvPr/>
          </p:nvSpPr>
          <p:spPr>
            <a:xfrm>
              <a:off x="4305960" y="2209680"/>
              <a:ext cx="205560" cy="2286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Line 18"/>
            <p:cNvSpPr/>
            <p:nvPr/>
          </p:nvSpPr>
          <p:spPr>
            <a:xfrm>
              <a:off x="3071520" y="1981080"/>
              <a:ext cx="1441440" cy="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Line 17"/>
            <p:cNvSpPr/>
            <p:nvPr/>
          </p:nvSpPr>
          <p:spPr>
            <a:xfrm>
              <a:off x="4511880" y="1981080"/>
              <a:ext cx="108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Text Box 16"/>
            <p:cNvSpPr/>
            <p:nvPr/>
          </p:nvSpPr>
          <p:spPr>
            <a:xfrm>
              <a:off x="1219320" y="1523880"/>
              <a:ext cx="102924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труб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Line 15"/>
            <p:cNvSpPr/>
            <p:nvPr/>
          </p:nvSpPr>
          <p:spPr>
            <a:xfrm>
              <a:off x="1837440" y="1752480"/>
              <a:ext cx="41076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Line 14"/>
            <p:cNvSpPr/>
            <p:nvPr/>
          </p:nvSpPr>
          <p:spPr>
            <a:xfrm>
              <a:off x="4924080" y="2209680"/>
              <a:ext cx="0" cy="34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Line 13"/>
            <p:cNvSpPr/>
            <p:nvPr/>
          </p:nvSpPr>
          <p:spPr>
            <a:xfrm>
              <a:off x="3894840" y="2209680"/>
              <a:ext cx="0" cy="34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Line 12"/>
            <p:cNvSpPr/>
            <p:nvPr/>
          </p:nvSpPr>
          <p:spPr>
            <a:xfrm>
              <a:off x="3894840" y="2552760"/>
              <a:ext cx="1029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Line 11"/>
            <p:cNvSpPr/>
            <p:nvPr/>
          </p:nvSpPr>
          <p:spPr>
            <a:xfrm>
              <a:off x="4924080" y="2209680"/>
              <a:ext cx="204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Line 10"/>
            <p:cNvSpPr/>
            <p:nvPr/>
          </p:nvSpPr>
          <p:spPr>
            <a:xfrm flipH="1">
              <a:off x="3688920" y="2209680"/>
              <a:ext cx="205920" cy="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Line 9"/>
            <p:cNvSpPr/>
            <p:nvPr/>
          </p:nvSpPr>
          <p:spPr>
            <a:xfrm flipH="1">
              <a:off x="3894840" y="2324160"/>
              <a:ext cx="4111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Line 8"/>
            <p:cNvSpPr/>
            <p:nvPr/>
          </p:nvSpPr>
          <p:spPr>
            <a:xfrm flipH="1">
              <a:off x="4100400" y="2438280"/>
              <a:ext cx="204840" cy="11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Line 7"/>
            <p:cNvSpPr/>
            <p:nvPr/>
          </p:nvSpPr>
          <p:spPr>
            <a:xfrm>
              <a:off x="4511880" y="2438280"/>
              <a:ext cx="205920" cy="11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Line 6"/>
            <p:cNvSpPr/>
            <p:nvPr/>
          </p:nvSpPr>
          <p:spPr>
            <a:xfrm>
              <a:off x="4511880" y="2324160"/>
              <a:ext cx="4118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Line 5"/>
            <p:cNvSpPr/>
            <p:nvPr/>
          </p:nvSpPr>
          <p:spPr>
            <a:xfrm>
              <a:off x="4511880" y="2209680"/>
              <a:ext cx="4118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Line 4"/>
            <p:cNvSpPr/>
            <p:nvPr/>
          </p:nvSpPr>
          <p:spPr>
            <a:xfrm flipH="1">
              <a:off x="3894840" y="2209680"/>
              <a:ext cx="4111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Text Box 3"/>
            <p:cNvSpPr/>
            <p:nvPr/>
          </p:nvSpPr>
          <p:spPr>
            <a:xfrm>
              <a:off x="5129280" y="2438280"/>
              <a:ext cx="1576080" cy="292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протекто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Line 2"/>
            <p:cNvSpPr/>
            <p:nvPr/>
          </p:nvSpPr>
          <p:spPr>
            <a:xfrm flipH="1" flipV="1">
              <a:off x="4511880" y="2437920"/>
              <a:ext cx="822960" cy="11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4" name="Rectangle 4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" name="Group 25"/>
          <p:cNvGrpSpPr/>
          <p:nvPr/>
        </p:nvGrpSpPr>
        <p:grpSpPr>
          <a:xfrm>
            <a:off x="2743200" y="4104000"/>
            <a:ext cx="6400800" cy="1872720"/>
            <a:chOff x="2743200" y="4104000"/>
            <a:chExt cx="6400800" cy="1872720"/>
          </a:xfrm>
        </p:grpSpPr>
        <p:sp>
          <p:nvSpPr>
            <p:cNvPr id="206" name="AutoShape 41"/>
            <p:cNvSpPr/>
            <p:nvPr/>
          </p:nvSpPr>
          <p:spPr>
            <a:xfrm>
              <a:off x="2743200" y="4191120"/>
              <a:ext cx="6400800" cy="160020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AutoShape 40"/>
            <p:cNvSpPr/>
            <p:nvPr/>
          </p:nvSpPr>
          <p:spPr>
            <a:xfrm rot="13803600">
              <a:off x="4279680" y="3777120"/>
              <a:ext cx="326880" cy="2526480"/>
            </a:xfrm>
            <a:prstGeom prst="can">
              <a:avLst>
                <a:gd name="adj" fmla="val 1543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Rectangle 39"/>
            <p:cNvSpPr/>
            <p:nvPr/>
          </p:nvSpPr>
          <p:spPr>
            <a:xfrm>
              <a:off x="7547760" y="5334120"/>
              <a:ext cx="218520" cy="2286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Rectangle 38"/>
            <p:cNvSpPr/>
            <p:nvPr/>
          </p:nvSpPr>
          <p:spPr>
            <a:xfrm>
              <a:off x="6238080" y="4991400"/>
              <a:ext cx="735840" cy="228600"/>
            </a:xfrm>
            <a:prstGeom prst="rect">
              <a:avLst/>
            </a:prstGeom>
            <a:solidFill>
              <a:srgbClr val="ffffff"/>
            </a:solidFill>
            <a:ln w="73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Line 37"/>
            <p:cNvSpPr/>
            <p:nvPr/>
          </p:nvSpPr>
          <p:spPr>
            <a:xfrm>
              <a:off x="4708440" y="5105520"/>
              <a:ext cx="1529280" cy="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Line 36"/>
            <p:cNvSpPr/>
            <p:nvPr/>
          </p:nvSpPr>
          <p:spPr>
            <a:xfrm>
              <a:off x="6892920" y="5105520"/>
              <a:ext cx="654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Line 35"/>
            <p:cNvSpPr/>
            <p:nvPr/>
          </p:nvSpPr>
          <p:spPr>
            <a:xfrm>
              <a:off x="7547760" y="510552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Line 34"/>
            <p:cNvSpPr/>
            <p:nvPr/>
          </p:nvSpPr>
          <p:spPr>
            <a:xfrm flipV="1">
              <a:off x="6455520" y="441936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Line 33"/>
            <p:cNvSpPr/>
            <p:nvPr/>
          </p:nvSpPr>
          <p:spPr>
            <a:xfrm flipV="1">
              <a:off x="6674040" y="45338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Line 32"/>
            <p:cNvSpPr/>
            <p:nvPr/>
          </p:nvSpPr>
          <p:spPr>
            <a:xfrm>
              <a:off x="6455520" y="4419720"/>
              <a:ext cx="873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Line 31"/>
            <p:cNvSpPr/>
            <p:nvPr/>
          </p:nvSpPr>
          <p:spPr>
            <a:xfrm>
              <a:off x="6674040" y="4533840"/>
              <a:ext cx="437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Text Box 30"/>
            <p:cNvSpPr/>
            <p:nvPr/>
          </p:nvSpPr>
          <p:spPr>
            <a:xfrm>
              <a:off x="2819520" y="4648320"/>
              <a:ext cx="109188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труб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Text Box 29"/>
            <p:cNvSpPr/>
            <p:nvPr/>
          </p:nvSpPr>
          <p:spPr>
            <a:xfrm>
              <a:off x="7909560" y="5409720"/>
              <a:ext cx="1234080" cy="304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металл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Text Box 28"/>
            <p:cNvSpPr/>
            <p:nvPr/>
          </p:nvSpPr>
          <p:spPr>
            <a:xfrm>
              <a:off x="7036200" y="4266720"/>
              <a:ext cx="1452600" cy="304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к сет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Line 27"/>
            <p:cNvSpPr/>
            <p:nvPr/>
          </p:nvSpPr>
          <p:spPr>
            <a:xfrm>
              <a:off x="3399120" y="4876920"/>
              <a:ext cx="43596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Line 26"/>
            <p:cNvSpPr/>
            <p:nvPr/>
          </p:nvSpPr>
          <p:spPr>
            <a:xfrm flipH="1" flipV="1">
              <a:off x="7765920" y="5448240"/>
              <a:ext cx="435960" cy="11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2" name="Прямоугольник 44"/>
          <p:cNvSpPr/>
          <p:nvPr/>
        </p:nvSpPr>
        <p:spPr>
          <a:xfrm>
            <a:off x="2417760" y="3244680"/>
            <a:ext cx="573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хема катодной защиты трубопров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3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3505320" cy="1600200"/>
          </a:xfrm>
          <a:prstGeom prst="rect">
            <a:avLst/>
          </a:prstGeom>
          <a:ln w="0">
            <a:noFill/>
          </a:ln>
        </p:spPr>
      </p:pic>
      <p:sp>
        <p:nvSpPr>
          <p:cNvPr id="224" name="Прямоугольник 5"/>
          <p:cNvSpPr/>
          <p:nvPr/>
        </p:nvSpPr>
        <p:spPr>
          <a:xfrm>
            <a:off x="4059360" y="914400"/>
            <a:ext cx="465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хема дренажной защиты тру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4"/>
          <p:cNvSpPr/>
          <p:nvPr/>
        </p:nvSpPr>
        <p:spPr>
          <a:xfrm>
            <a:off x="228600" y="3104640"/>
            <a:ext cx="8534520" cy="30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indent="18108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Коррозия первого вида или коррозия выщелачивания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Некоторые водные растворы солей и вода с малой жесткостью способны растворять цементный камень, не вступая с ним в химическое взаимодействие. Образующиеся растворенные компоненты цементного камня (например, Са(ОН)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) выносятся во внешнюю среду, делая его пористым и менее прочны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"/>
          <p:cNvSpPr/>
          <p:nvPr/>
        </p:nvSpPr>
        <p:spPr>
          <a:xfrm>
            <a:off x="533520" y="6840"/>
            <a:ext cx="83055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638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Коррозионный мониторинг включает четыре основных этап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181080" algn="just">
              <a:buClr>
                <a:srgbClr val="000000"/>
              </a:buClr>
              <a:buFont typeface="Arial"/>
              <a:buChar char="•"/>
              <a:tabLst>
                <a:tab algn="l" pos="638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Мониторинг на стадии проектирова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181080" algn="just">
              <a:buClr>
                <a:srgbClr val="000000"/>
              </a:buClr>
              <a:buFont typeface="Arial"/>
              <a:buChar char="•"/>
              <a:tabLst>
                <a:tab algn="l" pos="638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Мониторинг на стадии изготовле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181080" algn="just">
              <a:buClr>
                <a:srgbClr val="000000"/>
              </a:buClr>
              <a:buFont typeface="Arial"/>
              <a:buChar char="•"/>
              <a:tabLst>
                <a:tab algn="l" pos="638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Мониторинг во время эксплуатаци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181080" algn="just">
              <a:buClr>
                <a:srgbClr val="000000"/>
              </a:buClr>
              <a:buFont typeface="Arial"/>
              <a:buChar char="•"/>
              <a:tabLst>
                <a:tab algn="l" pos="638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Мониторинг в период ренова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2"/>
          <p:cNvSpPr/>
          <p:nvPr/>
        </p:nvSpPr>
        <p:spPr>
          <a:xfrm>
            <a:off x="380880" y="2678760"/>
            <a:ext cx="830592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Основное химическое свойство всех металлов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 восстановительная активность. Металлы сравнительно легко отдают валентные электроны, превращаясь в положительные ионы (катионы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Ме –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ne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↔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e</a:t>
            </a:r>
            <a:r>
              <a:rPr b="1" i="1" lang="en-US" sz="20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n</a:t>
            </a:r>
            <a:r>
              <a:rPr b="1" i="1" lang="ru-RU" sz="20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+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Атомы металлов не присоединяют электронов и не образуют отрицательно заряженных ионов (анионов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1"/>
          <p:cNvSpPr/>
          <p:nvPr/>
        </p:nvSpPr>
        <p:spPr>
          <a:xfrm>
            <a:off x="304920" y="200160"/>
            <a:ext cx="883908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роцесс гидролиза в упрощенном вид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(3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аО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∙Al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) + 6H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 →3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аО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∙2 Al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∙ ∙3H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 + 3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а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Н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2"/>
          <p:cNvSpPr/>
          <p:nvPr/>
        </p:nvSpPr>
        <p:spPr>
          <a:xfrm>
            <a:off x="228600" y="2758320"/>
            <a:ext cx="83818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. Коррозия второго вид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роцессы коррозионного разрушения связаны с химическим взаимодействием цементного камня и агрессивных компонент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 результате происходит образование легко растворимых продуктов, выносимых из бетона во внешнюю среду, или аморфных веществ, не обладающих вяжущими свойствами и не способных препятствовать дальнейшему развитию корроз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Прямоугольник 3"/>
          <p:cNvSpPr/>
          <p:nvPr/>
        </p:nvSpPr>
        <p:spPr>
          <a:xfrm>
            <a:off x="380880" y="228600"/>
            <a:ext cx="853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∙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ислотная коррозия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вязана с взаимодействием гидроксида кальция с кислотами (р. нейтрализации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Прямоугольник 4"/>
          <p:cNvSpPr/>
          <p:nvPr/>
        </p:nvSpPr>
        <p:spPr>
          <a:xfrm>
            <a:off x="685800" y="1143000"/>
            <a:ext cx="822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Са(ОН)</a:t>
            </a:r>
            <a:r>
              <a:rPr b="0" i="1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+2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i="1" lang="ru-RU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OH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i="1" lang="ru-RU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СОО)</a:t>
            </a:r>
            <a:r>
              <a:rPr b="0" i="1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+ 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i="1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1"/>
          <p:cNvSpPr/>
          <p:nvPr/>
        </p:nvSpPr>
        <p:spPr>
          <a:xfrm>
            <a:off x="685800" y="1720800"/>
            <a:ext cx="647712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a(OH)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 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2HNO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→ Ca(NO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2H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2"/>
          <p:cNvSpPr/>
          <p:nvPr/>
        </p:nvSpPr>
        <p:spPr>
          <a:xfrm>
            <a:off x="448920" y="2330640"/>
            <a:ext cx="606312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iF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6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ЗСа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(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Н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= Si0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3CaF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4H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Прямоугольник 7"/>
          <p:cNvSpPr/>
          <p:nvPr/>
        </p:nvSpPr>
        <p:spPr>
          <a:xfrm>
            <a:off x="1140480" y="2819520"/>
            <a:ext cx="42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∙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глекислотная коррозия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3"/>
          <p:cNvSpPr/>
          <p:nvPr/>
        </p:nvSpPr>
        <p:spPr>
          <a:xfrm>
            <a:off x="592200" y="3291480"/>
            <a:ext cx="48016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аСО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СО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+ Н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 = Са(НСО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а(ОН)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О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= Са(НСО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рямоугольник 9"/>
          <p:cNvSpPr/>
          <p:nvPr/>
        </p:nvSpPr>
        <p:spPr>
          <a:xfrm>
            <a:off x="380880" y="5105520"/>
            <a:ext cx="8153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∙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ействие  органических вещест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рганические вещества природных вод в основном представлены гуминовыми, гумусовыми кислотами и их солям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1"/>
          <p:cNvSpPr/>
          <p:nvPr/>
        </p:nvSpPr>
        <p:spPr>
          <a:xfrm>
            <a:off x="228600" y="387360"/>
            <a:ext cx="868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∙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Действие солей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Для данного вида коррозии наиболее характерны обменные реакции. Скорость коррозии зависит, как от состава этих солей, так и от продуктов их взаимодейств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2"/>
          <p:cNvSpPr/>
          <p:nvPr/>
        </p:nvSpPr>
        <p:spPr>
          <a:xfrm>
            <a:off x="380880" y="2146320"/>
            <a:ext cx="8382240" cy="9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H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4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O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 →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NH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4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OH +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Н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NO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H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4</a:t>
            </a:r>
            <a:r>
              <a:rPr b="0" i="1" lang="pt-BR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+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+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 →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NH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4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OH + 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Н</a:t>
            </a:r>
            <a:r>
              <a:rPr b="0" i="1" lang="pt-BR" sz="2400" spc="-1" strike="noStrike" u="sng" baseline="30000">
                <a:solidFill>
                  <a:srgbClr val="000000"/>
                </a:solidFill>
                <a:uFillTx/>
                <a:latin typeface="Arial"/>
                <a:ea typeface="Times New Roman"/>
              </a:rPr>
              <a:t>+</a:t>
            </a:r>
            <a:r>
              <a:rPr b="0" i="1" lang="pt-BR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рН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 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3"/>
          <p:cNvSpPr/>
          <p:nvPr/>
        </p:nvSpPr>
        <p:spPr>
          <a:xfrm>
            <a:off x="398880" y="3168720"/>
            <a:ext cx="793008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а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Н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H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4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O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2H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 → Ca(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O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∙4H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 + 2 NH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4"/>
          <p:cNvSpPr/>
          <p:nvPr/>
        </p:nvSpPr>
        <p:spPr>
          <a:xfrm>
            <a:off x="304920" y="3708720"/>
            <a:ext cx="8839080" cy="198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∙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Магнезиальная корроз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заимодействие солей магния с компонентами цементного камня характеризуется тем, что в результате образуется  практически нерастворимый гидроксид маг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gSO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4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а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(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Н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2 H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 → Mg (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Н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↓+ CaSO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4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∙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H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5"/>
          <p:cNvSpPr/>
          <p:nvPr/>
        </p:nvSpPr>
        <p:spPr>
          <a:xfrm>
            <a:off x="986040" y="5835600"/>
            <a:ext cx="550800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а(ОН)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gCl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→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aCl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g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(ОН)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Прямоугольник 3"/>
          <p:cNvSpPr/>
          <p:nvPr/>
        </p:nvSpPr>
        <p:spPr>
          <a:xfrm>
            <a:off x="304920" y="380880"/>
            <a:ext cx="883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∙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ействие газообразных веществ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процессы коррозии бетона зависят от природы  и  химической активности этих вещест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1"/>
          <p:cNvSpPr/>
          <p:nvPr/>
        </p:nvSpPr>
        <p:spPr>
          <a:xfrm>
            <a:off x="304920" y="1841760"/>
            <a:ext cx="8610480" cy="957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O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→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O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O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а(ОН)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→Са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O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+ 2Н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2"/>
          <p:cNvSpPr/>
          <p:nvPr/>
        </p:nvSpPr>
        <p:spPr>
          <a:xfrm>
            <a:off x="668160" y="3016440"/>
            <a:ext cx="44690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а(ОН)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+СО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→СаСО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↓+ Н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3"/>
          <p:cNvSpPr/>
          <p:nvPr/>
        </p:nvSpPr>
        <p:spPr>
          <a:xfrm>
            <a:off x="228600" y="3819600"/>
            <a:ext cx="8610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 Коррозия третьего вид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Этот вид коррозии связан с накоплением и действием новообразований в порах и капиллярах бетона. При заполнении таких пространств в толще бетона может возникать внутреннее напряжение, которое приводит к разрушен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2"/>
          <p:cNvSpPr/>
          <p:nvPr/>
        </p:nvSpPr>
        <p:spPr>
          <a:xfrm>
            <a:off x="380880" y="482760"/>
            <a:ext cx="8458200" cy="35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∙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ульфатная корроз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 взаимодействии растворенного гипса с трехкальциевым гидроалюминатом образуется трудно растворимый, обладающий большой гигроскопичностью гидросульфоалюминат кальция. Поглощая большое количество воды, он значительно увеличивается в объеме (~ в 2,5 раза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аО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∙Al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∙ 6H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 + 3CaSO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4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+n H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 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3СаО∙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l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∙ 3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aSO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4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∙  31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Прямоугольник 5"/>
          <p:cNvSpPr/>
          <p:nvPr/>
        </p:nvSpPr>
        <p:spPr>
          <a:xfrm>
            <a:off x="996480" y="4038480"/>
            <a:ext cx="354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∙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Щелочная корроз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3"/>
          <p:cNvSpPr/>
          <p:nvPr/>
        </p:nvSpPr>
        <p:spPr>
          <a:xfrm>
            <a:off x="304920" y="4505400"/>
            <a:ext cx="8458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Термодинамика коррозии строительных материалов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амопроизвольно будут протекать те процессы, которые сопровождаются образованием более стойких веществ (с более отрицательными значениями энтальпии образования) по сравнению с исходны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1"/>
          <p:cNvSpPr/>
          <p:nvPr/>
        </p:nvSpPr>
        <p:spPr>
          <a:xfrm>
            <a:off x="304920" y="349200"/>
            <a:ext cx="861048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iF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4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2Са (ОН)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= 2CaF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Н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0 + SiO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кратирова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Прямоугольник 4"/>
          <p:cNvSpPr/>
          <p:nvPr/>
        </p:nvSpPr>
        <p:spPr>
          <a:xfrm>
            <a:off x="457200" y="99072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люатированием — обработка поверхности бетона водными растворами кремнефтористоводородной кислот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2"/>
          <p:cNvSpPr/>
          <p:nvPr/>
        </p:nvSpPr>
        <p:spPr>
          <a:xfrm>
            <a:off x="228600" y="2245680"/>
            <a:ext cx="8305920" cy="36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а(ОН)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СО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= СаСО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Н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роизведение растворимости для СаСО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 стандартных условиях составляет  4,8∙10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-9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, а для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а(ОН)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,2∙10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-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, т.е растворимость карбоната кальция гораздо меньше растворимости гидроксида кальц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ведение гидравлических добавок повышает прочность цементного камня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а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Н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SiO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(n-1)H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 = CaO∙SiO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∙nH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1"/>
          <p:cNvSpPr/>
          <p:nvPr/>
        </p:nvSpPr>
        <p:spPr>
          <a:xfrm>
            <a:off x="304920" y="199080"/>
            <a:ext cx="8839080" cy="58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 присутствии хлора деполяризация катода происходит в основном за счет реакции восстановления хлора, а не кислород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½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l</a:t>
            </a:r>
            <a:r>
              <a:rPr b="0" i="1" lang="en-US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e</a:t>
            </a:r>
            <a:r>
              <a:rPr b="0" i="1" lang="ru-RU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-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→ Cl</a:t>
            </a:r>
            <a:r>
              <a:rPr b="0" i="1" lang="ru-RU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-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φ = 1,36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 воде хлор гидролизуется с образованием хлороводородной и хлорноватистой кисло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l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H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 → HCl + HC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Хлорноватистая кислота является более сильным окислителе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ClO + H</a:t>
            </a:r>
            <a:r>
              <a:rPr b="0" i="1" lang="pt-BR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+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</a:t>
            </a:r>
            <a:r>
              <a:rPr b="0" i="1" lang="pt-BR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-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→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½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Cl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H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;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φ</a:t>
            </a:r>
            <a:r>
              <a:rPr b="0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= +1,63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ClO + H</a:t>
            </a:r>
            <a:r>
              <a:rPr b="0" i="1" lang="pt-BR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+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e</a:t>
            </a:r>
            <a:r>
              <a:rPr b="0" i="1" lang="pt-BR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-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→ Cl</a:t>
            </a:r>
            <a:r>
              <a:rPr b="0" i="1" lang="pt-BR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-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H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;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φ</a:t>
            </a:r>
            <a:r>
              <a:rPr b="0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= +1,49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1"/>
          <p:cNvSpPr/>
          <p:nvPr/>
        </p:nvSpPr>
        <p:spPr>
          <a:xfrm>
            <a:off x="457200" y="723960"/>
            <a:ext cx="8458200" cy="401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O</a:t>
            </a:r>
            <a:r>
              <a:rPr b="0" i="1" lang="en-US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H</a:t>
            </a:r>
            <a:r>
              <a:rPr b="0" i="1" lang="en-US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→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H</a:t>
            </a:r>
            <a:r>
              <a:rPr b="0" i="1" lang="en-US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O</a:t>
            </a:r>
            <a:r>
              <a:rPr b="0" i="1" lang="en-US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0" i="1" lang="en-US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O</a:t>
            </a:r>
            <a:r>
              <a:rPr b="0" i="1" lang="en-US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4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0" i="1" lang="pt-BR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+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4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e</a:t>
            </a:r>
            <a:r>
              <a:rPr b="0" i="1" lang="pt-BR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-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→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H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 +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Φ</a:t>
            </a:r>
            <a:r>
              <a:rPr b="0" lang="pt-BR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(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рН</a:t>
            </a:r>
            <a:r>
              <a:rPr b="0" lang="pt-BR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=3)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= + 0,285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O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2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0" i="1" lang="pt-BR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+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4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e</a:t>
            </a:r>
            <a:r>
              <a:rPr b="0" i="1" lang="pt-BR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-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→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H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 + S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i="1" lang="pt-BR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Φ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(рН=3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= + 0,235 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 взаимодействии сернистого газа с железом образуется сульфид и гидроксид железа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e  + H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 + SO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→ FeS↓+ 2 Fe(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Н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1"/>
          <p:cNvSpPr/>
          <p:nvPr/>
        </p:nvSpPr>
        <p:spPr>
          <a:xfrm>
            <a:off x="838080" y="350280"/>
            <a:ext cx="7162920" cy="53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Пример 1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Какой стержень из меди (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ru-RU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/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+ 0,3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или кадмия (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d</a:t>
            </a:r>
            <a:r>
              <a:rPr b="0" lang="ru-RU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/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d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–0,40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будет вытеснять олово из 1М раствора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nCl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 Напишите уравнения вытеснения олова из раствора в молекулярном и ионно-молекулярном вид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n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n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0,1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Решение: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равним стандартные электродные потенциалы металлов: 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n</a:t>
            </a:r>
            <a:r>
              <a:rPr b="0" lang="ru-RU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n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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</a:t>
            </a:r>
            <a:r>
              <a:rPr b="0" lang="ru-RU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 Следовательно, медь является окислителем по отношению к олову и не может вытеснять его из растворов; 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n</a:t>
            </a:r>
            <a:r>
              <a:rPr b="0" lang="ru-RU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n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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ru-RU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d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следовательно, кадмий – восстановитель по отношению к олову и будет вытеснять его из раствор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кция вытеснения запишется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 молекулярном вид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nCl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+   Cd   </a:t>
            </a:r>
            <a:r>
              <a:rPr b="0" lang="ru-RU" sz="2000" spc="-1" strike="noStrike">
                <a:solidFill>
                  <a:srgbClr val="000000"/>
                </a:solidFill>
                <a:latin typeface="Wingdings 3"/>
                <a:ea typeface="Wingdings 3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n   +   CdCl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 ионно-молекулярном вид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n</a:t>
            </a:r>
            <a:r>
              <a:rPr b="0" lang="ru-RU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d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Wingdings 3"/>
                <a:ea typeface="Wingdings 3"/>
              </a:rPr>
              <a:t>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n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+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d</a:t>
            </a:r>
            <a:r>
              <a:rPr b="0" lang="ru-RU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1"/>
          <p:cNvSpPr/>
          <p:nvPr/>
        </p:nvSpPr>
        <p:spPr>
          <a:xfrm>
            <a:off x="609480" y="476640"/>
            <a:ext cx="7467840" cy="56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Пример 2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. Составьте уравнения электродных процессов, происходящих при коррозии медно-цинкового сплава в растворе кислоты при рН = 3, Т = 298К А) с водородной деполяризацией  Б) с кислородной деполяризаци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Решение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. Сравним стандартные потенциалы металлов: </a:t>
            </a:r>
            <a:r>
              <a:rPr b="0" lang="ru-RU" sz="16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ru-RU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ru-RU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0,337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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ru-RU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n</a:t>
            </a:r>
            <a:r>
              <a:rPr b="0" lang="ru-RU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n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-0,763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едовательно, анодом будет цинк, катодом –мед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лектродные процес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одная реакция:     (-) А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n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n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n</a:t>
            </a:r>
            <a:r>
              <a:rPr b="0" lang="ru-RU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тодные реакции:(+) К С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</a:t>
            </a:r>
            <a:r>
              <a:rPr b="0" lang="ru-RU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ru-RU" sz="16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одородная деполяризац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ru-RU" sz="16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4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ru-RU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4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ru-RU" sz="16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кислородная деполяризац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ммарная реакция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с водородной деполяризаци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n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ru-RU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Wingdings 3"/>
                <a:ea typeface="Wingdings 3"/>
              </a:rPr>
              <a:t>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Zn</a:t>
            </a:r>
            <a:r>
              <a:rPr b="0" lang="ru-RU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ru-RU" sz="16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Б) с кислородной деполяризацией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n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ru-RU" sz="16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4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ru-RU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Wingdings 3"/>
                <a:ea typeface="Wingdings 3"/>
              </a:rPr>
              <a:t>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Zn</a:t>
            </a:r>
            <a:r>
              <a:rPr b="0" lang="ru-RU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ru-RU" sz="16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Прямоугольник 3"/>
          <p:cNvSpPr/>
          <p:nvPr/>
        </p:nvSpPr>
        <p:spPr>
          <a:xfrm>
            <a:off x="471600" y="380880"/>
            <a:ext cx="315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рмическая аллотроп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4"/>
          <p:cNvSpPr/>
          <p:nvPr/>
        </p:nvSpPr>
        <p:spPr>
          <a:xfrm>
            <a:off x="533520" y="914400"/>
            <a:ext cx="822960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температурах ниже 910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образуется  α- железо     с объемно-центрированной кубической решеткой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температурах 910 – 1400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 -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железо     с гранецентрированной кубической решетко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"/>
          <p:cNvSpPr/>
          <p:nvPr/>
        </p:nvSpPr>
        <p:spPr>
          <a:xfrm>
            <a:off x="228600" y="2823120"/>
            <a:ext cx="8458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Однородные сплавы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 твердые растворы металлов, интерметаллические соединения, твердые растворы интерметаллидов в металлах или друг в друг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228600" y="4039200"/>
            <a:ext cx="853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Металлы – проводники первого рода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4" name=""/>
          <p:cNvGraphicFramePr/>
          <p:nvPr/>
        </p:nvGraphicFramePr>
        <p:xfrm>
          <a:off x="304920" y="228600"/>
          <a:ext cx="7924680" cy="6400800"/>
        </p:xfrm>
        <a:graphic>
          <a:graphicData uri="http://schemas.openxmlformats.org/drawingml/2006/table">
            <a:tbl>
              <a:tblPr/>
              <a:tblGrid>
                <a:gridCol w="2743200"/>
                <a:gridCol w="3352680"/>
                <a:gridCol w="1828800"/>
              </a:tblGrid>
              <a:tr h="236520"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лектрод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акц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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В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8320"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i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L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i + e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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L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3.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20"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+e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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.9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20"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b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R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b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+ e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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R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.9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7960"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C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s+ + e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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C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.9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20"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C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+2e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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C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.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20"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N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+e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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N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.7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8320"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M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+ 2e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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.3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20"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l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l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+ 3e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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.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20"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n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M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n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+2e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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M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.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7960"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n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Z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n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+ 2e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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76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20"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r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C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r3+ + 3e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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C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20"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e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F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e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+2e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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F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8320"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C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+2e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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C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4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20"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C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+2e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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C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,2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20"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i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N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i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+ 2e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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N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7960"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n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n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+ 2e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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,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20"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b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P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b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+ 2e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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P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20"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+ + 1e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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8320"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b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S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b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3e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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S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0.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20"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i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B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i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+3e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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B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0.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20"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u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C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u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+2e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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C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2.33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7960"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u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C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u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+ e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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C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0.5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20"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g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H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g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+ 2e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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H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0.7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20"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g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A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g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+ e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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A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8320"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t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P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t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+ 2e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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P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20"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u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A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u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+ e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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A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1.6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"/>
          <p:cNvPicPr/>
          <p:nvPr/>
        </p:nvPicPr>
        <p:blipFill>
          <a:blip r:embed="rId1"/>
          <a:stretch/>
        </p:blipFill>
        <p:spPr>
          <a:xfrm>
            <a:off x="685800" y="533520"/>
            <a:ext cx="3276720" cy="327636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5"/>
          <p:cNvSpPr/>
          <p:nvPr/>
        </p:nvSpPr>
        <p:spPr>
          <a:xfrm>
            <a:off x="4419720" y="1681560"/>
            <a:ext cx="3276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Двойной электрический слой на границе раздела активный металл - раств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6"/>
          <p:cNvSpPr/>
          <p:nvPr/>
        </p:nvSpPr>
        <p:spPr>
          <a:xfrm>
            <a:off x="304920" y="4006800"/>
            <a:ext cx="502920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Ме +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H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→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e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n</a:t>
            </a:r>
            <a:r>
              <a:rPr b="0" i="1" lang="ru-RU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+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∙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H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527400" y="4768920"/>
            <a:ext cx="461988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e</a:t>
            </a:r>
            <a:r>
              <a:rPr b="0" i="1" lang="pt-BR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n+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∙ mH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 + ne →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Ме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+ mH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8"/>
          <p:cNvSpPr/>
          <p:nvPr/>
        </p:nvSpPr>
        <p:spPr>
          <a:xfrm>
            <a:off x="609480" y="5379840"/>
            <a:ext cx="8229600" cy="8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Ме+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H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↔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e</a:t>
            </a:r>
            <a:r>
              <a:rPr b="0" i="1" lang="pt-BR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n</a:t>
            </a:r>
            <a:r>
              <a:rPr b="0" i="1" lang="ru-RU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+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∙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H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Ме ↔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e</a:t>
            </a:r>
            <a:r>
              <a:rPr b="0" i="1" lang="pt-BR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n</a:t>
            </a:r>
            <a:r>
              <a:rPr b="0" i="1" lang="ru-RU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+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+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457200" y="609480"/>
            <a:ext cx="3124080" cy="3048120"/>
          </a:xfrm>
          <a:prstGeom prst="rect">
            <a:avLst/>
          </a:prstGeom>
          <a:ln w="0">
            <a:noFill/>
          </a:ln>
        </p:spPr>
      </p:pic>
      <p:sp>
        <p:nvSpPr>
          <p:cNvPr id="56" name="Прямоугольник 4"/>
          <p:cNvSpPr/>
          <p:nvPr/>
        </p:nvSpPr>
        <p:spPr>
          <a:xfrm>
            <a:off x="3962520" y="1523880"/>
            <a:ext cx="4572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войной электрический слой на границе раздела малоактивный металл - раств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3"/>
          <p:cNvSpPr/>
          <p:nvPr/>
        </p:nvSpPr>
        <p:spPr>
          <a:xfrm>
            <a:off x="228600" y="3735720"/>
            <a:ext cx="8915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Потенциал, установившийся в условиях равновесия, называется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равновесным электродным потенциало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6"/>
          <p:cNvSpPr/>
          <p:nvPr/>
        </p:nvSpPr>
        <p:spPr>
          <a:xfrm>
            <a:off x="304920" y="4876920"/>
            <a:ext cx="83055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лектродный потенциал является постоянной величиной при данной температуре. Если пластинка металла опущена в раствор его соли с активностью ионов металла, равной единице (а=1), то, возникающий электродный потенциал называется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тандартным электродным потенциало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2"/>
          <p:cNvSpPr/>
          <p:nvPr/>
        </p:nvSpPr>
        <p:spPr>
          <a:xfrm>
            <a:off x="402480" y="672840"/>
            <a:ext cx="2567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уравнение Нернст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Object 1"/>
              <p:cNvSpPr txBox="1"/>
              <p:nvPr/>
            </p:nvSpPr>
            <p:spPr>
              <a:xfrm>
                <a:off x="3048120" y="380880"/>
                <a:ext cx="449568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RT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nF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1" name="Rectangle 3"/>
          <p:cNvSpPr/>
          <p:nvPr/>
        </p:nvSpPr>
        <p:spPr>
          <a:xfrm flipV="1" rot="10800000">
            <a:off x="457200" y="1657080"/>
            <a:ext cx="647712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где   Е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– стандартный электродный потенциал (в),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- газовая постоянная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Т – абсолютная температур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n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- степень окисления иона,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- число Фарадея – 96500 кулонов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а – активность ионов в раствор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5"/>
          <p:cNvSpPr/>
          <p:nvPr/>
        </p:nvSpPr>
        <p:spPr>
          <a:xfrm>
            <a:off x="304920" y="3891240"/>
            <a:ext cx="4419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Для разбавленных растворов или растворов слабых электролитов (где с = а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" name="Object 4"/>
              <p:cNvSpPr txBox="1"/>
              <p:nvPr/>
            </p:nvSpPr>
            <p:spPr>
              <a:xfrm>
                <a:off x="5029200" y="3809880"/>
                <a:ext cx="350532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59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lg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4" name="Rectangle 6"/>
          <p:cNvSpPr/>
          <p:nvPr/>
        </p:nvSpPr>
        <p:spPr>
          <a:xfrm>
            <a:off x="3367440" y="5486760"/>
            <a:ext cx="549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с – концентрация ионов в растворе (моль/л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Прямоугольник 3"/>
          <p:cNvSpPr/>
          <p:nvPr/>
        </p:nvSpPr>
        <p:spPr>
          <a:xfrm>
            <a:off x="5259240" y="685800"/>
            <a:ext cx="322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альванический элемен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1066680" y="533520"/>
            <a:ext cx="4267440" cy="274320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3"/>
          <p:cNvSpPr/>
          <p:nvPr/>
        </p:nvSpPr>
        <p:spPr>
          <a:xfrm>
            <a:off x="762120" y="3408120"/>
            <a:ext cx="7696080" cy="272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n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– 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</a:t>
            </a:r>
            <a:r>
              <a:rPr b="0" i="1" lang="ru-RU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-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→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n</a:t>
            </a:r>
            <a:r>
              <a:rPr b="0" i="1" lang="ru-RU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+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анодный проце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Cu</a:t>
            </a:r>
            <a:r>
              <a:rPr b="0" i="1" lang="ru-RU" sz="2400" spc="-1" strike="noStrike" u="sng" baseline="30000">
                <a:solidFill>
                  <a:srgbClr val="000000"/>
                </a:solidFill>
                <a:uFillTx/>
                <a:latin typeface="Arial"/>
                <a:ea typeface="Times New Roman"/>
              </a:rPr>
              <a:t>2+ 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+ 2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e</a:t>
            </a:r>
            <a:r>
              <a:rPr b="0" i="1" lang="ru-RU" sz="2400" spc="-1" strike="noStrike" u="sng" baseline="30000">
                <a:solidFill>
                  <a:srgbClr val="000000"/>
                </a:solidFill>
                <a:uFillTx/>
                <a:latin typeface="Arial"/>
                <a:ea typeface="Times New Roman"/>
              </a:rPr>
              <a:t>-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→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Cu</a:t>
            </a:r>
            <a:r>
              <a:rPr b="0" i="1" lang="ru-RU" sz="2400" spc="-1" strike="noStrike" u="sng" baseline="30000">
                <a:solidFill>
                  <a:srgbClr val="000000"/>
                </a:solidFill>
                <a:uFillTx/>
                <a:latin typeface="Arial"/>
                <a:ea typeface="Times New Roman"/>
              </a:rPr>
              <a:t>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катодный проце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n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u</a:t>
            </a:r>
            <a:r>
              <a:rPr b="0" i="1" lang="ru-RU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+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→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n </a:t>
            </a:r>
            <a:r>
              <a:rPr b="0" i="1" lang="ru-RU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+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+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u</a:t>
            </a:r>
            <a:r>
              <a:rPr b="0" i="1" lang="ru-RU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или в молекулярной форм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n + CuSO</a:t>
            </a:r>
            <a:r>
              <a:rPr b="0" i="1" lang="en-US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4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→ Zn SO</a:t>
            </a:r>
            <a:r>
              <a:rPr b="0" i="1" lang="en-US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4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+ Cu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1"/>
          <p:cNvSpPr/>
          <p:nvPr/>
        </p:nvSpPr>
        <p:spPr>
          <a:xfrm>
            <a:off x="304920" y="1211040"/>
            <a:ext cx="8458200" cy="441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Пара с большим стандартным редокс-потенциалом игрет роль окислителя по отношению к паре с меньшим потенциал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Электродвижущая сила определяется как разность электродных потенциалов, устанавливающихся на границе каждого из этих металлов с растворо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Более активный металл посылает в  раствор положительно заряженные гидратированные ионы, а сам заряжается отрицательно. К менее активному металлу подходят электроны, восстанавливающие  катионы или молекул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Реакция протекает самопроизвольно в прямом направлении, если ее ЭДС положительна, т.е.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ЭДС = Е</a:t>
            </a:r>
            <a:r>
              <a:rPr b="1" lang="ru-RU" sz="20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r>
              <a:rPr b="1" lang="ru-RU" sz="2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окисл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– Е</a:t>
            </a:r>
            <a:r>
              <a:rPr b="1" lang="ru-RU" sz="20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r>
              <a:rPr b="1" lang="ru-RU" sz="2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восст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&gt; 0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 Если ЭДС окажется отрицательной, то реакция идет в обратном направлен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urora</cp:lastModifiedBy>
  <dcterms:modified xsi:type="dcterms:W3CDTF">2009-05-17T19:48:36Z</dcterms:modified>
  <cp:revision>3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