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3D19-4A0E-4CCB-BC6C-5199134EA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6C0E-D4F0-4972-BB58-D9DD6102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6CB6-2A7B-45FE-922A-6FC79E002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5D37-7E01-42E1-BE49-6A9741E9F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9566-1A11-4AA9-884E-5F1E294B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B350-E7DB-4C03-81A0-6D199923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BF59-3F4E-4DC3-921B-1268B57A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F759-BD15-4AAF-94EC-A5123884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7B5F-8A85-4760-A988-3E3F4D08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3B97-4A25-49A9-B1B9-4296670D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D77B-1EA5-48BA-B2DA-CEBB00C9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B161-FE82-4070-BB23-1208F773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ECF6-F5BE-4A79-83D7-F1942D15D4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урс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имия в строительств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ктор :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.х.н., доц. Григорьева  Лариса Станиславо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1066680" y="4800600"/>
            <a:ext cx="426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 курс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кции – 16 ч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ные работы –16 ч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152280" y="385920"/>
            <a:ext cx="883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дотермические реакции идут с поглощением тепл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вой эффект имеет отрицательное значение, а энтальпия положитель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зотермические реакции, идут с выделением тепла.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пловой эффект имеет положительное значение, а энтальпия отрицательно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228600" y="2005200"/>
            <a:ext cx="807732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ндотермическая реакция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∆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;  +∆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кзотермическая реакция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+∆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;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∆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152280" y="2821320"/>
            <a:ext cx="883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еакция происходит в конденсированных фазах,  то различиями межд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∆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но пренебреч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152280" y="388980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закона Гесса вытекают три важных следст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ствие 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Энтальпия реакции равна разности энтальпий образования продуктов и реагент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152280" y="5444280"/>
            <a:ext cx="899172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∑ (∆H </a:t>
            </a:r>
            <a:r>
              <a:rPr b="1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обр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прод.) –  ∑ (∆H </a:t>
            </a:r>
            <a:r>
              <a:rPr b="1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обр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реаг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407880" y="306720"/>
            <a:ext cx="824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, если уравнение реакции в общем виде записать следующ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52280" y="9910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[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.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) + d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(D) ]– [a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.)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228600" y="198612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та образования это тепловой эффект реакции  образования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го моля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единения из простых вещест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ные теплоты образования вычисляют при стандартных условия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8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и 101325 П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52280" y="3942720"/>
            <a:ext cx="8839440" cy="19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(т)+ С (граф.) +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5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г) = СаСО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т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– 1206кД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рмохимических уравнениях применяют дробные коэффициенты для того, чтобы показать тепловой эффект реакции при образовании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моль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228600" y="436680"/>
            <a:ext cx="86868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теплоту реа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(тв.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 С0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(г)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СаСОз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(тв.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известны стандартные теплоты  образования   (из таблиц стандартных величин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AutoShape 2"/>
          <p:cNvCxnSpPr/>
          <p:nvPr/>
        </p:nvCxnSpPr>
        <p:spPr>
          <a:xfrm>
            <a:off x="4038120" y="2895480"/>
            <a:ext cx="1044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7" name="Rectangle 4"/>
          <p:cNvSpPr/>
          <p:nvPr/>
        </p:nvSpPr>
        <p:spPr>
          <a:xfrm>
            <a:off x="498240" y="2487960"/>
            <a:ext cx="747936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еств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98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Дж /мол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371600" y="2872080"/>
            <a:ext cx="495288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О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36,46;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4,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Оз                    – 12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152280" y="4673520"/>
            <a:ext cx="8839440" cy="14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любой реакции равно разности между суммой теплот образования (энтальпий) продуктов реакци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аСО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суммой энтальпий исходных продук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аО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 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О</a:t>
            </a:r>
            <a:r>
              <a:rPr b="0" i="1" lang="ru-RU" sz="20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214560" y="406440"/>
            <a:ext cx="70729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 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— 1206 —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36,46+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4,07) =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75,47 кД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75,47 кДж.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5,47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Д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идет с выделением теп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228600" y="1832760"/>
            <a:ext cx="8686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ствие 2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нтальпия реакции равна разности энтальпий сгорания реагентов и продукт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р = ∑ (∆H сгор.) (реаг.) –  ∑ (∆H сгор.) (прод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312804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еак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А + bB = cC + d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a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го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(A) +b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го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(B)] – [ c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го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(C) + d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го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52280" y="495648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ствие 3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рмохимические уравнения реакций можно складывать и вычитать, умножать и делить, записывать справа налево, несмотря на подчас практическую неосуществимость обратных реак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152280" y="384480"/>
            <a:ext cx="883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ирование уравнений реакций и энтальп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третьему следствию из закона Гес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762120" y="1242360"/>
            <a:ext cx="8229600" cy="18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е реак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∆ H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 + ½ 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O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∆H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+ 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∆ H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½ 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∆H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O + S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S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∆ H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5"/>
          <p:cNvSpPr/>
          <p:nvPr/>
        </p:nvSpPr>
        <p:spPr>
          <a:xfrm>
            <a:off x="380880" y="3105000"/>
            <a:ext cx="8153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 + S + 2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CaS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∆Hp =∆ 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+ ∆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+∆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+∆ 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52280" y="3861360"/>
            <a:ext cx="876312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честве примера можно рассмотреть и процесс образования диоксида углерода С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20880" y="4929480"/>
            <a:ext cx="887220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вый вариант: получение диоксида углерода, непосредственно сжигая уго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+ 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С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304920" y="154440"/>
            <a:ext cx="8458200" cy="20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торой вариант: проведение  процесса  в две стадии: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)  получение монооксида угле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+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½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О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 СО;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б)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жигание монооксида углерода в токе кисло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 +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½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О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=  СО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∆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∆Н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+ ∆Н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666880" y="2438280"/>
            <a:ext cx="3762360" cy="29718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3"/>
          <p:cNvSpPr/>
          <p:nvPr/>
        </p:nvSpPr>
        <p:spPr>
          <a:xfrm>
            <a:off x="3298680" y="5791320"/>
            <a:ext cx="17499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∆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= ∆Н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∆Н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533520" y="338760"/>
            <a:ext cx="8381880" cy="29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щество                         Энергия кристаллической решет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Дж/м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ехкальциевый силикат                                        107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3CaOSi0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лит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вухкальциевый силикат                                        72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2CaOSi0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ли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ксид  кальция                                                         35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Са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гашеная изве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82800" y="3505680"/>
            <a:ext cx="753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вещество обладает наибольшей способностью к гидратац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57200" y="4578480"/>
            <a:ext cx="830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химические данные помогают решать и вопросы, связанные с выбором охлаждающих смес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амораживании насыщенных водой пористых строительных материалов: кирпича, бетона, грунтов и т. п.  вода превращается  в лед, что приводит к разрушению этих матери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304920" y="391320"/>
            <a:ext cx="8534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 из средств предотвращения льдообразования — растворение в воде различных веществ. Это необходимо, например, при борьбе с гололедом, при производстве бетонных работ в зимнее время и в некоторых других случа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но строители для снижения температуры замерзания растворов применяют растворы солей сильных электролитов. Из них большой популярностью пользуются хлорид кальция и поваренная соль (хлорид натр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152280" y="3183840"/>
            <a:ext cx="84582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мешивать соль хлорида кальция с водой в различных массовых соотношениях, то образующиеся растворы солей замерзают при различных температур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ьшей температурой является температура —55 °С;  Этой температуре соответствует раствор с концентрацией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1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5,75 кг на 100 кг воды. Такую, наименьшую температуру называют эвтектической от слова «эвтектика», что значит «хорошо обрабатываемый» (этот термин впервые был применен к сплавам) или криогидрат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228600" y="384840"/>
            <a:ext cx="848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тектика -  жидкая система (раствор или расплав), находящаяся п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ом давлении в равновесии с твёрдыми фазами, число которых равно  числу компонентов систе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609480" y="183384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ом раствора хлорида кальция перед многими другими солями, в том числе и перед более дешевой поваренной солью, является низкое значение его эвтектической температуры. Так, если ввести в грунт хлорид кальция, то он не замерзнет при низких температу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04920" y="3434040"/>
            <a:ext cx="883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ерзшийся грунт легко уплотняется обычными средств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«холодного» бетона это важное свойство хлорида кальция удачно сочетается с тем, что он значительно ускоряет твердение цемента, причем может одновременно несколько пластифициро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04920" y="511056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варенную соль, эвтектическая температура раствора которой ра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—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1,2 °С, можно применять при менее суровых условиях зимы, причем следует учесть, что ее действие как ускорителя твердения цементов выражено слабее, чем у хлорида каль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228600" y="312120"/>
            <a:ext cx="880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е первого начала термодинамики составляют энергетический балан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й может быть представлен в виде уравнения, связывающего приход и расход энерг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химико-технологических процессов составляют тепловой баланс. Применительно к тепловому балансу закон сохранения энергии можно сформулировать следующим образо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228600" y="2445120"/>
            <a:ext cx="8610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ход теплоты в данном цикле производства должен быть точно равен расходу ее в этом же цикл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должно быть учтено теплосодержание каждого компонента, как входящего, так и выходящего из процесса или аппарата, а также теплообмен с окружающей сред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152280" y="457704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е теплового балан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Qпр = ΣQрасх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Qпр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ΣQрасх = 0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4"/>
          <p:cNvSpPr/>
          <p:nvPr/>
        </p:nvSpPr>
        <p:spPr>
          <a:xfrm>
            <a:off x="533520" y="304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ое и второе начала термодинами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685800" y="198108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Первое начало термодинамики. Энталь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685800" y="2438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Закон Гесса, след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685800" y="289548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Второе начало термодинамики. Энтро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685800" y="33526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Энергия Гельмгольца. Энергия Гибб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685800" y="38862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Некоторые вопросы  химической кинет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3429000" y="9144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685800" y="43434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 Химическое равновесие. Принцип Ле-Шателье (самостоятель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152280" y="463680"/>
            <a:ext cx="876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аппаратов (процессов) непрерывного действия тепловой баланс составляют н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цу времен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для аппаратов (процессов) периодического действи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время цикл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или отдельного перехода) обрабо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вой баланс подобно материальному, выражают в виде таблиц, диаграмм, а для расчета используют следующее урав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304920" y="22104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т + Qж + Qг + Qф + Qр + Qп = Q'т + Q'ж + Q'г + Q'ф + Q'р + Q'п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228600" y="2597400"/>
            <a:ext cx="8610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ж ,Qг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ичество теплоты, вносимое в аппарат твердыми, жидкими и газообразными веществами соответственно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'т, Q'ж, Q'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теплоты, уносимое из аппарата выходящими продуктами, полупродуктами реакции и не прореагировавшими исходными веществами в твердом, жидком и газообразном вид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228600" y="411696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ф и Q'ф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та физических процессов, происходящих с выделением и поглощением (Q'ф) теплот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"/>
          <p:cNvSpPr/>
          <p:nvPr/>
        </p:nvSpPr>
        <p:spPr>
          <a:xfrm>
            <a:off x="152280" y="4731840"/>
            <a:ext cx="8686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р и Q'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ичество теплоты, выделяющееся в результате экзо- и эндотермических реакций (Q'р);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ичество теплоты, подводимое в аппарат извне (в виде дымовых газов, нагретого воздуха, сжигания топлива, электроэнергии и т.п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'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и тепла в окружающую среду, а также отвод тепла через холодильники, помещенные внутри аппар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1219320" y="2296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е начало термодинам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152280" y="997200"/>
            <a:ext cx="883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икакая совокупность процессов не может сводиться к передаче тепла от холодного тела к горячему, тогда как передача тепла от горячего тела к холодному может быть  единственным результатом процессов (Клаузиу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28600" y="290196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икакая совокупность процессов не может сводиться только к превращению теплоты в работу, тогда как превращение работы в теплоту может быть единственным результатом процессов (Томсо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228600" y="48790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возможно создание вечного двигателя второго рода (Оствальд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380880" y="4270680"/>
            <a:ext cx="853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е, полученное для цикла Карно, является математическим выражением второго начала термодинамик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А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(5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310824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1143000" y="1530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ы: самопроизвольные неравновесные и равновес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152280" y="924840"/>
            <a:ext cx="8686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ы, протекающие без затрат извне называются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произвольными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процессы могут происходить как в изолированной системе, так и  откры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ы, которые совершаются только в результате воздействия извне, называются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нужден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ни в изолированной системе происходить не могут. Для осуществления таких процессов требуется передача энергии со стороны окружающей среды в форме теплоты или рабо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228600" y="4273920"/>
            <a:ext cx="8153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ают обратимые и необратимые химические реак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ратимы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реакции, в ходе которых хотя бы одно из исходных веществ расходуется полн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мы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реакции, протекающие одновременно в двух взаимно противоположных направл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380880" y="358128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який самопроизвольный процесс в конечном итоге приводит систему к равновесию. Равновесие достигается и в химических реакц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152280" y="225720"/>
            <a:ext cx="8458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процессы являются истинно необратимыми. Их никаким способом нельзя провести как обратимые. Это процессы, единственным результатом  которых является превращение работы  в теплоту (например, механическое трение твердых поверхностей, внутреннее трение в жидкостях и газах, теплопроводность). Необратимые самопроизвольные процессы протекают в направлении, которое приближает систему к состоянию равновесия и связаны с передачей теплоты или беспорядочным движением молеку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04920" y="3359520"/>
            <a:ext cx="8381880" cy="30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 цикла Карно приводит к представлению об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ή = А/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Т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Т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1- (Т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учило названи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денной тепло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228600" y="391320"/>
            <a:ext cx="8610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е начало термодинамики постулирует, что существует важнейшее физическое свойство систем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я, ее изменение в равновесном изотермическом процессе равно приведенной теплот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для элементарного процесса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δ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е. изменение энтропии происходит под действием энергии, передаваемой в виде тепл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304920" y="3256920"/>
            <a:ext cx="8458200" cy="19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ункция состояни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е изменение определяется энтропией начального и конечного состояния системы и не зависит от пути перех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я экстенсивное свойство. Это означает, что общая энтропия системы равна сумме энтропий составных часте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80880" y="5158080"/>
            <a:ext cx="853452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общ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= 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 изменение энтропии кругового процесса записывается так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4038480" y="5791320"/>
            <a:ext cx="2257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152280" y="376560"/>
            <a:ext cx="8458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уравнение справедливо для любого замкнутого цикла, в том числе и для самопроизвольных процесс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.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вн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их процессах отличаются только приведенные тепло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.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 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вн.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0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овательно: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вн.&gt; δ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380880" y="274680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яя уравнения 7 и 8 получаем: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 δ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/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≤ T d S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304920" y="381204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еравенство Клаузиуса представляет собой аналитическое выражение второго начала термодинамик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28600" y="4731120"/>
            <a:ext cx="8381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решение уравнений  2 и 9 дает объединенное уравнение первого и второго начал термодинам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V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dS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≤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dS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V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"/>
          <p:cNvSpPr/>
          <p:nvPr/>
        </p:nvSpPr>
        <p:spPr>
          <a:xfrm>
            <a:off x="152280" y="311400"/>
            <a:ext cx="8539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ие статистической природы второго начала термодинамики позволило  Больцману определить статистический смысл энтропии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ln W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1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ая Больцмана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динамическая вероят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228600" y="1988640"/>
            <a:ext cx="8675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я зависит от всех видов движения частиц, содержащихся  в молекул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аждого данного вещества энтропия возрастает при всех процессах, вызываемых движением частиц (испарение, плавление, диффузия). Энтропия возрастает при ослаблении связей между атомами в молекулах и при разрыве их. Наоборот, с упрочнением связей энтропия уменьш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533520" y="396612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ра неупорядоченности состояния системы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самопроизвольном протекании процесса в изолированной системе ее энтропия возраста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457200" y="5035680"/>
            <a:ext cx="8381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энтроп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∑ (ν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 кон. - ∑ (ν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ис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 и предел течения самопроизвольных процессов для изолированных систе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о не могут быть критерием направленности реальных химических процесс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"/>
          <p:cNvSpPr/>
          <p:nvPr/>
        </p:nvSpPr>
        <p:spPr>
          <a:xfrm>
            <a:off x="152280" y="997920"/>
            <a:ext cx="86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внутренней энергии, способную к превращениям и производству полезной работы. Для изохорного процесса эту энергию Гельмгольц назвал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но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нергие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функция или энергия Гельмгольца, изохорно-изотермический или просто изохорный потенциал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я часть теряется в виде теплоты и связана с энтропией тела и температурой процесс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вязанная энергия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0" y="2902320"/>
            <a:ext cx="876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яя энерги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сумма свободной и связанной энерг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Гельмгольца: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ил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52280" y="472644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ность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хорно-изотермических процесс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ределяется соотношени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5563080"/>
            <a:ext cx="76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≤ -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- (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1600200" y="3060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Гельмгольца. Энергия Гибб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6"/>
          <p:cNvSpPr/>
          <p:nvPr/>
        </p:nvSpPr>
        <p:spPr>
          <a:xfrm>
            <a:off x="304920" y="593424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 равенства относится к равновесному процессу, знак меньше к самопроизвольному процес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"/>
          <p:cNvSpPr/>
          <p:nvPr/>
        </p:nvSpPr>
        <p:spPr>
          <a:xfrm>
            <a:off x="304920" y="309960"/>
            <a:ext cx="8307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зобарно-изотермическом процессе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на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нергия обозначается термодинамической функцией энергией Гиббс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(свободная энтальпия, изобарно-изотермический или изобарный потенциа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304920" y="2443320"/>
            <a:ext cx="8305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альпия процесса равна  сумм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но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анно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нерг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304920" y="549000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ем самопроизвольности процесса является: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ем равновесия систем с постоянным составом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4"/>
          <p:cNvSpPr/>
          <p:nvPr/>
        </p:nvSpPr>
        <p:spPr>
          <a:xfrm>
            <a:off x="685800" y="358128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бсолютные значения энергии Гиббса и энергии Гельмгольца определить невозможно, поэтому определяют только изменения этих термодинамических потенциал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5"/>
          <p:cNvSpPr/>
          <p:nvPr/>
        </p:nvSpPr>
        <p:spPr>
          <a:xfrm>
            <a:off x="762120" y="45720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Гиббса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∆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∆ Н -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вое начало термодинамики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"/>
          <p:cNvSpPr/>
          <p:nvPr/>
        </p:nvSpPr>
        <p:spPr>
          <a:xfrm>
            <a:off x="380880" y="1224360"/>
            <a:ext cx="8077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динамика – это наука, которая изучает законы взаимного превращения различных видов энергии при физических и химических процессах, определяет зависимость энергетического эффекта этих процессов от условий их протек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380880" y="259452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имической термодинамике рассматриваются основные термодинамические законы применительно к химическим и физико-химическим процесс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80880" y="3742560"/>
            <a:ext cx="8382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Химическая термодинамика изуч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отношения между теплотой и другими формами энергии в процессе химических реак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зможность самопроизвольного протекания химических реакций в данных услови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ловия, при которых реакция находится в состоянии химического равновес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"/>
          <p:cNvSpPr/>
          <p:nvPr/>
        </p:nvSpPr>
        <p:spPr>
          <a:xfrm>
            <a:off x="0" y="516960"/>
            <a:ext cx="830592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ите, возможно ли, самопроизвольное протекание данной реак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(тв.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+ С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(г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СаС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(тв.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решения необходимо найти свободную энергию Гибб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G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∆ Н -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нтальпию реакции рассчитываем, используя следствия из закона Гес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380880" y="2718360"/>
            <a:ext cx="845820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— 1206 —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36,46+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4,07) =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75,47 кД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стандартные величины, находим изменение энтроп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аСО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92,9 Дж/моль∙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О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3,6 Дж/моль∙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аО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,7 Дж/моль∙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304920" y="480420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 = ∑ (ν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 кон. - ∑ (ν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ис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= 0,0929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(0,0397 + 0,2136)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1604 кД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75,47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98∙(-0,1604)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27,67 кДж/м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304920" y="586944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реакция идет с уменьшением свободной энергии (энергии Гиббса), т. е. протекает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произво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"/>
          <p:cNvSpPr/>
          <p:nvPr/>
        </p:nvSpPr>
        <p:spPr>
          <a:xfrm>
            <a:off x="380880" y="626040"/>
            <a:ext cx="8153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закон термодинамики нарушений не знает, а второй в силу его статистического характера может нарушаться. Если окажется, что второй закон нарушен, то это значит, что совершился маловероятный, но в принципе возможный процес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е явление незначительных и кратковременных самопроизвольных отклонений от состояния равновесия носит название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уктуаци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играет существенную роль в ряде физико-химических превращений, например, в возникновении кристаллов из пересыщенных растворов, что очень важно для понимания процессов твердения вяжущих веществ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 флуктуации плотности в небольших частях объема концентрация вещества оказывается несколько большей, чем средняя концентрация того же вещества во всем объеме жид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304920" y="488052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динамик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читывает ни фактора времени, ни фактора скорости; он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ирует лишь о принципиальной возможности осуществления того или иного процесс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"/>
          <p:cNvSpPr/>
          <p:nvPr/>
        </p:nvSpPr>
        <p:spPr>
          <a:xfrm>
            <a:off x="228600" y="920880"/>
            <a:ext cx="8686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ами скорости реакций занимается химическая кинет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ая кинетика — это учение о скоростях реакций, т. е. о процессах, в которых в отличие от термодинамики время в явной или неявной форме фигурирует обязатель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ей кинетики является и изучение механизма химических реак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1219320" y="2296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вопросы химической кине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533520" y="2607480"/>
            <a:ext cx="8610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нятие механизма реакции входят данные о ее промежуточных стадиях, о скорости и последовательности протекания этих стадий, позволяющие установить, какая из них как самая медленная. Так как именно она будет определять кинетику всего процесса в це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могенные реакции протекают в одной фа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терогенные – на поверхности раздела ф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2286000" y="3962520"/>
            <a:ext cx="436248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"/>
          <p:cNvSpPr/>
          <p:nvPr/>
        </p:nvSpPr>
        <p:spPr>
          <a:xfrm>
            <a:off x="609480" y="542160"/>
            <a:ext cx="7925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енно  скорость химической реакции характеризуют изменением концентрации реагирующих веществ в единицу времени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υ = ±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редняя скорость реакции. Истинную скорость процесса определяют изменением концентрации  за бесконечно малый промежуток време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υ = ±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380880" y="282312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сть реакции всегда положительна. Знак минус указывает, что расчет ведется по концентрации исходных продуктов, а знак плюс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концентрации конеч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380880" y="3969720"/>
            <a:ext cx="8305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мость скорости реакции  от концентрации реагирующих веществ является постулатом химической кинетик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коном действующих масс Гульдберга и Ваге: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стоянной температуре скорость химической реакции прямо пропорциональна произведению концентраций реагирующих веществ, возведенных в некоторые степ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228600" y="699120"/>
            <a:ext cx="8686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реакции:              А + В =  Д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υ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k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 ∙ Св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д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- константа скорости процес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етерогенные реакции имеют некоторые принципиальные особенности, отличающие их от гомогенных, которые необходимо учитывать в строительной практи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, при взаимодействии твердого вещества с жидкостью (например, известняка с кислотой) суммарная макроскопическая скорость реакции в общем   виде   зависит   не   только   от концентрации кислоты, но и от реакционной поверхност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υ =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k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'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C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=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k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"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228600" y="434844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едко значение поверхности, если она в ходе реакции практически не изменяется, входит в константу скор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сть гетерогенного процесса лимитируется скоростью самой медленной стад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"/>
          <p:cNvSpPr/>
          <p:nvPr/>
        </p:nvSpPr>
        <p:spPr>
          <a:xfrm>
            <a:off x="304920" y="362160"/>
            <a:ext cx="8534160" cy="32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сть химической реакции сильно изменяется с температурой. С повышением температуры она растет и лишь у некоторых многостадийных реакций уменьш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ная зависимость в основном определяется константой скорости. Для приблизительных расчетов в небольшом температурном интервале можно использовать правило Вант-Гофф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вышении температуры на каждые десять градусов скорость химической реакции увеличивается в 2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 р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+10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t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380880" y="388836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мпературный коэффициент скорости химической реак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станта скор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228600" y="23364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е начало (закон) термодинамики непосредственно связано с законом сохранения и превращения энергии, который устанавливает эквивалентность ее форм. Этот закон является универсальным и подтверждается всем опытом челове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152280" y="168012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о всех явлениях природы энергия не может исчезнуть бесследно или возникнуть из ничего. Энергия только превращается из одной формы в другую в строго эквивалентных соотношениях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366480" y="2667600"/>
            <a:ext cx="55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гда этот закон формулируют в другой форм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228600" y="305172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ечный двигатель первого рода невозможен, т.е. невозможно построить машину, которая выполняла бы механическую работу, не затрачивая на это соответствующего количества молекулярной энерг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228600" y="4125240"/>
            <a:ext cx="8686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тела в природе независимо от их агрегатного состояния облада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енным запасом энерг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а энергия складывается из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инетической энергии молеку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энергии колебательного движения атомов, энергии электронов, внутриядерной энергии, энергии взаимодействия молеку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 т.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перечисленные энергии за исключением кинетической энергии системы в целом и потенциальной энергии ее положения в пространстве, составля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утреннюю энерги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U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152280" y="463680"/>
            <a:ext cx="883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стем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—совокупность тел, выделенных фактически или мысленно из окружающей сре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стемы, объем и энергия которых постоянны,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олирован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ояние системы характеризу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араметрами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ъемом «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»,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влением  «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»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мпературой «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»,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центрацией 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52280" y="2445120"/>
            <a:ext cx="8991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ы, не зависящие от пути перехода системы из одного состояния в другое, а зависящие только от начального и конечного состояний,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ями состоя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пример, внутренняя энергия тела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.е в изолированной системе внутренняя энергия постоянна и определяется природой составляющих ее веществ, их массой и условиями существов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52280" y="4285800"/>
            <a:ext cx="88394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солютное значение внутренней энергии определить невозможно, можно только измерить изменение внутренней энергии при переходе системы из одного состояния в другое. Если термодинамическая система с внутренней энергие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ереходит в другое состояние с энергие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изменение внутренней энергии  ∆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не зависит от пути перехода, а зависит только от начального и конечного состояния системы, определяемого параметрами состояния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305560" cy="26668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7"/>
          <p:cNvSpPr/>
          <p:nvPr/>
        </p:nvSpPr>
        <p:spPr>
          <a:xfrm>
            <a:off x="152280" y="3055320"/>
            <a:ext cx="8839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т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работ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щем вид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являют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ункциями состояния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связь между внутренней энергией, теплотой  и работой устанавливается на основе первого начала термодинамики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яя энергия может изменяться только под влиянием внешних воздействий, то есть в результате сообщения системе количества теплоты Q и совершения над ней работы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406800" y="5564520"/>
            <a:ext cx="823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та, подводимая к системе, идет на приращение внутренней энер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ы и на совершение работы против внешних сил: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76320" y="365760"/>
            <a:ext cx="8762760" cy="28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А    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ое уравнение представляет собой математическую формулировку первого закона термодинам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зохорном процессе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 теплота равна приращению внутренней энер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е. все тепло расходуется на изменение внутренней энерг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3148200"/>
            <a:ext cx="8991720" cy="36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  изобарном процесс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совершается только работа расшир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       (2)                     где  А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                                                 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р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р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V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р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Н, 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Н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∆Н.   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304920" y="365760"/>
            <a:ext cx="8762760" cy="28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ш)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динамическая функция, называемая энтальпией  (тепловая функция или теплосодержание системы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характеризует внутреннее состояние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й смысл энтальп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если процесс идет при постоянном давлении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то изменение энтальпии будет включать в себя изменение внутренней энергии и то количества тепла, которое расходуется на расширение системы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альпия представляет собой энергию расширенной систем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       (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52280" y="3511800"/>
            <a:ext cx="8686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теплота изобарного процесса равна приращению энтальпии системы во время это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зохорном и изобарном процессах теплота становится функцией состояния. Она не зависит от пути процесса, а зависит только от начального и конечного состояния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0" y="1631160"/>
            <a:ext cx="9144000" cy="23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химических реакциях происходит изменение внутренней энергии системы. Если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разность внутренних энергий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яется в виде тепло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увеличении внутренней энергии 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реакция идет с поглощением теп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ичество теплоты, выделяющееся или поглощающееся при реакции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зывается тепловым эффект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38080" y="3986280"/>
            <a:ext cx="784872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хорный процесс: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ует     ∆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арный процесс: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соответствует     ∆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0" y="23004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Гесса. След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6"/>
          <p:cNvSpPr/>
          <p:nvPr/>
        </p:nvSpPr>
        <p:spPr>
          <a:xfrm>
            <a:off x="228600" y="510552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вой эффект химической реакции зависит только от вида и состояния исходных веществ и конечных продуктов, но не зависит от промежуточных состояний и путей перех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кон Гесс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1371600" y="762120"/>
            <a:ext cx="777240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+ В              →             С+ 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ные реагенты            продукты реа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rora</cp:lastModifiedBy>
  <dcterms:modified xsi:type="dcterms:W3CDTF">2009-02-15T09:56:07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